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6.wmf" ContentType="image/x-wmf"/>
  <Override PartName="/ppt/media/image24.wmf" ContentType="image/x-wmf"/>
  <Override PartName="/ppt/media/image22.wmf" ContentType="image/x-wmf"/>
  <Override PartName="/ppt/media/image21.wmf" ContentType="image/x-wmf"/>
  <Override PartName="/ppt/media/image29.wmf" ContentType="image/x-wmf"/>
  <Override PartName="/ppt/media/image19.jpeg" ContentType="image/jpeg"/>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jpeg" ContentType="image/jpeg"/>
  <Override PartName="/ppt/media/image15.wmf" ContentType="image/x-wmf"/>
  <Override PartName="/ppt/media/image1.jpeg" ContentType="image/jpeg"/>
  <Override PartName="/ppt/media/image4.wmf" ContentType="image/x-wmf"/>
  <Override PartName="/ppt/media/image34.wmf" ContentType="image/x-wmf"/>
  <Override PartName="/ppt/media/image41.wmf" ContentType="image/x-wmf"/>
  <Override PartName="/ppt/media/image35.wmf" ContentType="image/x-wmf"/>
  <Override PartName="/ppt/media/image36.wmf" ContentType="image/x-wmf"/>
  <Override PartName="/ppt/media/image40.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46.wmf" ContentType="image/x-wmf"/>
  <Override PartName="/ppt/media/image39.wmf" ContentType="image/x-wmf"/>
  <Override PartName="/ppt/media/image9.wmf" ContentType="image/x-wmf"/>
  <Override PartName="/ppt/media/image13.wmf" ContentType="image/x-wmf"/>
  <Override PartName="/ppt/media/image5.png" ContentType="image/png"/>
  <Override PartName="/ppt/media/image12.wmf" ContentType="image/x-wmf"/>
  <Override PartName="/ppt/media/image10.wmf" ContentType="image/x-wmf"/>
  <Override PartName="/ppt/media/image47.wmf" ContentType="image/x-wmf"/>
  <Override PartName="/ppt/media/image27.png" ContentType="image/png"/>
  <Override PartName="/ppt/media/image30.wmf" ContentType="image/x-wmf"/>
  <Override PartName="/ppt/media/image11.jpeg" ContentType="image/jpeg"/>
  <Override PartName="/ppt/media/image23.wmf" ContentType="image/x-wmf"/>
  <Override PartName="/ppt/media/image7.wmf" ContentType="image/x-wmf"/>
  <Override PartName="/ppt/media/image37.wmf" ContentType="image/x-wmf"/>
  <Override PartName="/ppt/media/image6.png" ContentType="image/png"/>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CBDD5-64BC-4BDB-BE47-D52BD036A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15A2A-0279-49D6-9EB6-C1DD05106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69C60-DD74-4002-9831-763B5378A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1A1FF-F371-4644-833B-B86536E23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7DB56-1CBE-4C6A-88E9-4C3F09C68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9CD9F-BD52-4994-885D-89F8AC6D2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89D4F-599F-44A4-BA71-C861ABD09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2D20C-031E-4349-B3E8-8B8830E3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64AFF-8673-4D89-B372-6662E7922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90FB-7E6E-4A2B-B398-0A869AC3E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A9432-58B2-4A44-821C-F60EC7628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41382-2151-4A1D-9EA4-74C3E370F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9E03-86D3-4DD7-9D1E-75A63B513B20}" type="slidenum">
              <a:rPr b="0" lang="lv-LV"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lidere4.jpg"/>
          <p:cNvPicPr/>
          <p:nvPr/>
        </p:nvPicPr>
        <p:blipFill>
          <a:blip r:embed="rId2"/>
          <a:stretch/>
        </p:blipFill>
        <p:spPr>
          <a:xfrm>
            <a:off x="0" y="0"/>
            <a:ext cx="9144000" cy="68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1" descr="lidere1.jpg"/>
          <p:cNvPicPr/>
          <p:nvPr/>
        </p:nvPicPr>
        <p:blipFill>
          <a:blip r:embed="rId1"/>
          <a:stretch/>
        </p:blipFill>
        <p:spPr>
          <a:xfrm>
            <a:off x="0" y="0"/>
            <a:ext cx="9144000" cy="6864480"/>
          </a:xfrm>
          <a:prstGeom prst="rect">
            <a:avLst/>
          </a:prstGeom>
          <a:ln w="0">
            <a:noFill/>
          </a:ln>
        </p:spPr>
      </p:pic>
      <p:sp>
        <p:nvSpPr>
          <p:cNvPr id="43" name="Rectangle 2"/>
          <p:cNvSpPr/>
          <p:nvPr/>
        </p:nvSpPr>
        <p:spPr>
          <a:xfrm>
            <a:off x="1214280" y="1143000"/>
            <a:ext cx="7786800" cy="182880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000" spc="-1" strike="noStrike">
                <a:solidFill>
                  <a:srgbClr val="000099"/>
                </a:solidFill>
                <a:latin typeface="Verdana"/>
              </a:rPr>
              <a:t>Sieviete uzņēmējdarbībā</a:t>
            </a:r>
            <a:endParaRPr b="0" lang="en-US" sz="4000" spc="-1" strike="noStrike">
              <a:solidFill>
                <a:srgbClr val="000000"/>
              </a:solidFill>
              <a:latin typeface="Arial"/>
            </a:endParaRPr>
          </a:p>
        </p:txBody>
      </p:sp>
      <p:sp>
        <p:nvSpPr>
          <p:cNvPr id="44" name="Rectangle 4"/>
          <p:cNvSpPr/>
          <p:nvPr/>
        </p:nvSpPr>
        <p:spPr>
          <a:xfrm>
            <a:off x="1643040" y="4071960"/>
            <a:ext cx="6400800" cy="601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99"/>
                </a:solidFill>
                <a:latin typeface="Verdana"/>
              </a:rPr>
              <a:t>KVANTITATĪVAIS PĒTĪJUMS</a:t>
            </a:r>
            <a:endParaRPr b="0" lang="en-US" sz="2200" spc="-1" strike="noStrike">
              <a:solidFill>
                <a:srgbClr val="000000"/>
              </a:solidFill>
              <a:latin typeface="Arial"/>
            </a:endParaRPr>
          </a:p>
        </p:txBody>
      </p:sp>
      <p:sp>
        <p:nvSpPr>
          <p:cNvPr id="45" name="Rectangle 5"/>
          <p:cNvSpPr/>
          <p:nvPr/>
        </p:nvSpPr>
        <p:spPr>
          <a:xfrm>
            <a:off x="2214720" y="5572080"/>
            <a:ext cx="5333760" cy="601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99"/>
                </a:solidFill>
                <a:latin typeface="Verdana"/>
              </a:rPr>
              <a:t>2012.gada novembris</a:t>
            </a:r>
            <a:endParaRPr b="0" lang="en-US" sz="2200" spc="-1" strike="noStrike">
              <a:solidFill>
                <a:srgbClr val="000000"/>
              </a:solidFill>
              <a:latin typeface="Arial"/>
            </a:endParaRPr>
          </a:p>
        </p:txBody>
      </p:sp>
      <p:pic>
        <p:nvPicPr>
          <p:cNvPr id="46" name="Picture 6" descr="em"/>
          <p:cNvPicPr/>
          <p:nvPr/>
        </p:nvPicPr>
        <p:blipFill>
          <a:blip r:embed="rId2"/>
          <a:stretch/>
        </p:blipFill>
        <p:spPr>
          <a:xfrm>
            <a:off x="4086360" y="131760"/>
            <a:ext cx="1280880" cy="118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500040" y="500040"/>
            <a:ext cx="8358120" cy="5572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Vairākums (58%) aptaujāto sieviešu – uzņēmēju finanšu atbalsta pieejamību uzņēmējdarbībai vērtēja kritiski. Uzskatu, ka finanšu atbalsts pieejams viegli vai diezgan viegli, pārstāvēja 24% pētījuma dalībnieču.</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Mazo un vidējo uzņēmumu īpašnieces/ vadītājas finanšu atbalsta pieejamību vērtēja kritiskāk, nekā lielo uzņēmumu pārstāve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Nozīmīgākie finanšu resursu avoti nepieciešamības gadījumā:</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ES struktūrfondu finansējums (minēja 53,5% aptaujas dalībnieču);</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Personīgie uzkrājumi (50%);</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Bankas kredīts (45%);</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Uzņēmējdarbības atbalsta programmas (38%);</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Pieredzējis biznes partneris (36%);</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Radi/ draugi/ paziņas (31%).</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Salīdzinājumā ar 2007.g.pētījumu, šogad retāk kā iespējamais finanšu resursu avots uzņēmuma attīstībai tika minēts bankas kredīts. Citi iespējamie avoti tika minēti biežāk.</a:t>
            </a:r>
            <a:endParaRPr b="0" lang="en-US" sz="1400" spc="-1" strike="noStrike">
              <a:solidFill>
                <a:srgbClr val="000000"/>
              </a:solidFill>
              <a:latin typeface="Arial"/>
            </a:endParaRPr>
          </a:p>
          <a:p>
            <a:pPr marL="457200" indent="-45720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500040" y="500040"/>
            <a:ext cx="8358120" cy="557208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99"/>
                </a:solidFill>
                <a:latin typeface="Calibri"/>
              </a:rPr>
              <a:t>3. Uzņēmējdarbības atbalsta programmas.</a:t>
            </a:r>
            <a:endParaRPr b="0" lang="en-US" sz="1600" spc="-1" strike="noStrike">
              <a:solidFill>
                <a:srgbClr val="000000"/>
              </a:solidFill>
              <a:latin typeface="Arial"/>
            </a:endParaRPr>
          </a:p>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Lielākā daļa (57%) aptaujāto uzņēmēju sava uzņēmuma attīstībai ir izmantojušas vai izmanto kādas uzņēmējdarbības atbalsta (finanšu vai ne-finanšu) programma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ašlaik kādu uzņēmējdarbības atbalsta programmu izmanto tikai 15% aptaujāto sieviešu – uzņēmēju.</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ētījuma rezultātu analīze atklāj, ka tās sievietes, kas uzņēmējdarbību uzsākušas pēdējo dažu gadu laikā uzņēmējdarbības atbalsta programmas izmanto vairāk nekā tās uzņēmējas, kas biznesu uzsākušas agrāk.</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Kopumā kādu uzņēmējdarbības atbalsta programmu plāno izmantot 27% pētījuma dalībnieču.</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Saskaņā ar pētījuma rezultātiem, populārākās uzņēmējdarbības atbalsta programmas ir:</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Apmācības programmas (izmantojušas, izmanto vai plāno izmantot 38% sieviešu – uzņēmēju);</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Mentoringa programmas (35%);</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Nodarbinātības valsts aģentūras atbalsta programmas (29%);</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Latvijas investīciju un attīstības aģentūras administrētās atbalsta programmas (24%);</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Latvijas Hipotēku un zemes bankas atbalsta programmas (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500040" y="500040"/>
            <a:ext cx="8358120" cy="5572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Visas uzņēmējdarbības atbalsta programmas vairāk dominējošā daļā gadījumu tika vērtētas pozitīvi – vairāk nekā 70% šo programmu dalībnieču ir ar tām apmierinātas. </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Kritiski vērtējumi visbiežāk (20% - 27% gadījumu) pausti par LAD, LIIA un Hipotēku un zemes bankas atbalsta programmām.</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Būtiskākā barjera uzņēmējdarbības atbalsta programmu izmantošanai – pārlieku sarežģītā birokrātija. Tā tika nosaukta, gan kā būtiskākā problēma vispār, runājot par uzņēmējdarbības atbalsta programmu izmantošanu, gan arī vērtējot konkrētas programmas. Bieži tika norādīts, ka pārāk sarežģīta ir pieteikšanās procedūra, dokumentu sagatavošana, finanšu jautājumu kārtošana.</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Vēl kā būtiski uzņēmējdarbības atbalsta programmu trūkumi bieži tika minēti – mākslīgi sarežģītā finanšu plūsma (pašam jābūt līdzekļiem, jo tos piešķir /atgriež vēlāk un dažkārt uz to ilgi ir jāgaida), kā arī uz zinošu speciālistu/ lektoru trūkumu programmu ietvaros. Bieži tika akcentēts arī informācijas trūkums par uzņēmējdarbības atbalsta programmā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500040" y="357120"/>
            <a:ext cx="8358120" cy="557208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99"/>
                </a:solidFill>
                <a:latin typeface="Calibri"/>
              </a:rPr>
              <a:t>4. Sieviešu – uzņēmēju sociāli demogrāfiskais profils un uzņēmumu raksturojums.</a:t>
            </a:r>
            <a:endParaRPr b="0" lang="en-US" sz="1600" spc="-1" strike="noStrike">
              <a:solidFill>
                <a:srgbClr val="000000"/>
              </a:solidFill>
              <a:latin typeface="Arial"/>
            </a:endParaRPr>
          </a:p>
          <a:p>
            <a:pPr marL="457200" indent="-457200"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Uzņēmējdarbības uzsākšanas gads</a:t>
            </a:r>
            <a:r>
              <a:rPr b="1" lang="lv-LV" sz="1400" spc="-1" strike="noStrike">
                <a:solidFill>
                  <a:srgbClr val="000000"/>
                </a:solidFill>
                <a:latin typeface="Calibri"/>
              </a:rPr>
              <a:t>. Lielākā daļa (52%) pētījuma dalībnieču uzņēmējdarbību uzsākušas pēc 2005.g. (visvairāk 2006. – 2007.g.).</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Darbinieku skaits uzņēmumos</a:t>
            </a:r>
            <a:r>
              <a:rPr b="1" lang="lv-LV" sz="1400" spc="-1" strike="noStrike">
                <a:solidFill>
                  <a:srgbClr val="000000"/>
                </a:solidFill>
                <a:latin typeface="Calibri"/>
              </a:rPr>
              <a:t>. Dominē (75%) uzņēmumi ar darbinieku skaitu līdz 5.</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Uzņēmumu darbības sfēra</a:t>
            </a:r>
            <a:r>
              <a:rPr b="1" lang="lv-LV" sz="1400" spc="-1" strike="noStrike">
                <a:solidFill>
                  <a:srgbClr val="000000"/>
                </a:solidFill>
                <a:latin typeface="Calibri"/>
              </a:rPr>
              <a:t>. Visvairāk pārstāvētas - Finanses/ bankas/ apdrošināšana (19%); Tirdzniecība (15%); Rūpniecība (13%); Izglītība/ zinātne (7%).</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Vecums</a:t>
            </a:r>
            <a:r>
              <a:rPr b="1" lang="lv-LV" sz="1400" spc="-1" strike="noStrike">
                <a:solidFill>
                  <a:srgbClr val="000000"/>
                </a:solidFill>
                <a:latin typeface="Calibri"/>
              </a:rPr>
              <a:t>. Lielākā daļa (55%) pētījuma dalībnieču ir vecumā no 31 līdz 45 gadiem.</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Tautība</a:t>
            </a:r>
            <a:r>
              <a:rPr b="1" lang="lv-LV" sz="1400" spc="-1" strike="noStrike">
                <a:solidFill>
                  <a:srgbClr val="000000"/>
                </a:solidFill>
                <a:latin typeface="Calibri"/>
              </a:rPr>
              <a:t>. Latvietes – 84%.</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Bērni ģimenē</a:t>
            </a:r>
            <a:r>
              <a:rPr b="1" lang="lv-LV" sz="1400" spc="-1" strike="noStrike">
                <a:solidFill>
                  <a:srgbClr val="000000"/>
                </a:solidFill>
                <a:latin typeface="Calibri"/>
              </a:rPr>
              <a:t>. Ir vairāk par pusi (56%) pētījuma dalībnieču.</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Izglītība</a:t>
            </a:r>
            <a:r>
              <a:rPr b="1" lang="lv-LV" sz="1400" spc="-1" strike="noStrike">
                <a:solidFill>
                  <a:srgbClr val="000000"/>
                </a:solidFill>
                <a:latin typeface="Calibri"/>
              </a:rPr>
              <a:t>. Augstākā izglītība – 83%. 18,5% aptaujāto sieviešu – uzņēmēju ir apguvusi kādu papildus apmācību kursu ārzemēs pēdējo 3 gadu laikā.</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Valodu zināšanas</a:t>
            </a:r>
            <a:r>
              <a:rPr b="1" lang="lv-LV" sz="1400" spc="-1" strike="noStrike">
                <a:solidFill>
                  <a:srgbClr val="000000"/>
                </a:solidFill>
                <a:latin typeface="Calibri"/>
              </a:rPr>
              <a:t>. Krievu – 98%, angļu – 89%, vācu – 20%.</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Ģimenes locekļu skaits</a:t>
            </a:r>
            <a:r>
              <a:rPr b="1" lang="lv-LV" sz="1400" spc="-1" strike="noStrike">
                <a:solidFill>
                  <a:srgbClr val="000000"/>
                </a:solidFill>
                <a:latin typeface="Calibri"/>
              </a:rPr>
              <a:t>. Vairākumam (76%) pētījuma dalībnieču – no 2 līdz 4.</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99"/>
                </a:solidFill>
                <a:latin typeface="Calibri"/>
              </a:rPr>
              <a:t>Ģimenes stāvoklis</a:t>
            </a:r>
            <a:r>
              <a:rPr b="1" lang="lv-LV" sz="1400" spc="-1" strike="noStrike">
                <a:solidFill>
                  <a:srgbClr val="000000"/>
                </a:solidFill>
                <a:latin typeface="Calibri"/>
              </a:rPr>
              <a:t>. Divas trešdaļas (67%) – precējušās vai dzīvo civillaulīb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914400" y="2467080"/>
            <a:ext cx="7238880" cy="203364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600" spc="-1" strike="noStrike">
                <a:solidFill>
                  <a:srgbClr val="000099"/>
                </a:solidFill>
                <a:latin typeface="Verdana"/>
              </a:rPr>
              <a:t>III. Pētījuma rezultāti.</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600" spc="-1" strike="noStrike">
                <a:solidFill>
                  <a:srgbClr val="000099"/>
                </a:solidFill>
                <a:latin typeface="Verdana"/>
              </a:rPr>
              <a:t>1. Biznesa vide Latvij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142920" y="1049400"/>
            <a:ext cx="6977160" cy="4665600"/>
          </a:xfrm>
          <a:prstGeom prst="rect">
            <a:avLst/>
          </a:prstGeom>
          <a:ln w="0">
            <a:noFill/>
          </a:ln>
        </p:spPr>
      </p:pic>
      <p:sp>
        <p:nvSpPr>
          <p:cNvPr id="63" name="AutoShape 4"/>
          <p:cNvSpPr/>
          <p:nvPr/>
        </p:nvSpPr>
        <p:spPr>
          <a:xfrm>
            <a:off x="7072200" y="500040"/>
            <a:ext cx="1928880" cy="5143680"/>
          </a:xfrm>
          <a:prstGeom prst="wedgeRoundRectCallout">
            <a:avLst>
              <a:gd name="adj1" fmla="val -56013"/>
              <a:gd name="adj2" fmla="val 233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Biznesa vidi Latvijā gandrīz puse (45%) aptaujāto sieviešu – uzņēmēju raksturoja kā neitrālu. 38% pētījuma dalībnieču biznesa vidi Latvijā novērtēja kā nelabvēlīgu, biznesa attīstību traucējošu. Pozitīvu viedokli (“labvēlīga, biznesa attīstību veicinoša” pārstāvēja 14% sieviešu – uzņēmēju.</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Salīdzinājumā ar 2007.g.pētījuma rezultātiem, šogad biznesa vide Latvijā biežāk vērtēta neitrāli, retāk, gan kā nelabvēlīga, gan kā labvēlīg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Aptaujas dalībnieces tika lūgtas paskaidrot savu viedokl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endParaRPr b="0" lang="en-US" sz="1400" spc="-1" strike="noStrike">
              <a:solidFill>
                <a:srgbClr val="000000"/>
              </a:solidFill>
              <a:latin typeface="Arial"/>
            </a:endParaRPr>
          </a:p>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Respondentes (kopskaitā 28), kuras </a:t>
            </a:r>
            <a:r>
              <a:rPr b="1" lang="lv-LV" sz="1600" spc="-1" strike="noStrike" u="sng">
                <a:solidFill>
                  <a:srgbClr val="000099"/>
                </a:solidFill>
                <a:uFillTx/>
                <a:latin typeface="Calibri"/>
              </a:rPr>
              <a:t>biznesa vidi Latvijā vērtēja kā labvēlīgu</a:t>
            </a:r>
            <a:r>
              <a:rPr b="1" lang="lv-LV" sz="1600" spc="-1" strike="noStrike">
                <a:solidFill>
                  <a:srgbClr val="000000"/>
                </a:solidFill>
                <a:latin typeface="Calibri"/>
              </a:rPr>
              <a:t>, savu uzskatu argumentēja sekojoši:</a:t>
            </a:r>
            <a:endParaRPr b="0" lang="en-US" sz="16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Plašas iespējas </a:t>
            </a:r>
            <a:r>
              <a:rPr b="1" i="1" lang="lv-LV" sz="1400" spc="-1" strike="noStrike">
                <a:solidFill>
                  <a:srgbClr val="000000"/>
                </a:solidFill>
                <a:latin typeface="Calibri"/>
              </a:rPr>
              <a:t>(8 respondent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tkarīgs no cilvēku/uzņēmēju uzņēmības (5);</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odokļu politika/ sistēma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iss attīstās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Zinoši darbinieki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audz atbalsta programmu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aug pirktspēj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alielinās ekonomiskā aktivitāt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Banku attieksm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bs valsts atbalst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ērojami uzlabojum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ug klientu skait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tbalsts uzņēmumie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tiekami daudz informācijas resurs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Eiropas projekti kropļo konkurenci.</a:t>
            </a:r>
            <a:endParaRPr b="0" lang="en-US" sz="1400" spc="-1" strike="noStrike">
              <a:solidFill>
                <a:srgbClr val="000000"/>
              </a:solidFill>
              <a:latin typeface="Arial"/>
            </a:endParaRPr>
          </a:p>
        </p:txBody>
      </p:sp>
      <p:pic>
        <p:nvPicPr>
          <p:cNvPr id="65" name="Picture 3" descr="Pozitiivs_sejinja737-150x150.png"/>
          <p:cNvPicPr/>
          <p:nvPr/>
        </p:nvPicPr>
        <p:blipFill>
          <a:blip r:embed="rId1"/>
          <a:stretch/>
        </p:blipFill>
        <p:spPr>
          <a:xfrm>
            <a:off x="6715080" y="4000680"/>
            <a:ext cx="1643040" cy="164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1285920" y="285840"/>
            <a:ext cx="7572240" cy="5715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Respondentes (kopskaitā 76), kuras </a:t>
            </a:r>
            <a:r>
              <a:rPr b="1" lang="lv-LV" sz="1600" spc="-1" strike="noStrike" u="sng">
                <a:solidFill>
                  <a:srgbClr val="000099"/>
                </a:solidFill>
                <a:uFillTx/>
                <a:latin typeface="Calibri"/>
              </a:rPr>
              <a:t>biznesa vidi Latvijā vērtēja kā nelabvēlīgu</a:t>
            </a:r>
            <a:r>
              <a:rPr b="1" lang="lv-LV" sz="1600" spc="-1" strike="noStrike">
                <a:solidFill>
                  <a:srgbClr val="000000"/>
                </a:solidFill>
                <a:latin typeface="Calibri"/>
              </a:rPr>
              <a:t>, savu uzskatu pamatoja sekojoši:</a:t>
            </a:r>
            <a:endParaRPr b="0" lang="en-US" sz="16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Lieli/augsti nodokļi; Nodokļu politika </a:t>
            </a:r>
            <a:r>
              <a:rPr b="1" i="1" lang="lv-LV" sz="1400" spc="-1" strike="noStrike">
                <a:solidFill>
                  <a:srgbClr val="000000"/>
                </a:solidFill>
                <a:latin typeface="Calibri"/>
              </a:rPr>
              <a:t>(34 jeb 44,7% no respondentēm, kuras  biznesa vidi Latvijā vērtēja kā nelabvēlīgu);</a:t>
            </a:r>
            <a:endParaRPr b="0" lang="en-US" sz="14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Liela/sarežģīta birokrātija </a:t>
            </a:r>
            <a:r>
              <a:rPr b="1" i="1" lang="lv-LV" sz="1400" spc="-1" strike="noStrike">
                <a:solidFill>
                  <a:srgbClr val="000000"/>
                </a:solidFill>
                <a:latin typeface="Calibri"/>
              </a:rPr>
              <a:t>(9 resp-tes);</a:t>
            </a:r>
            <a:endParaRPr b="0" lang="en-US" sz="14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Maza pirktspēja </a:t>
            </a:r>
            <a:r>
              <a:rPr b="1" i="1" lang="lv-LV" sz="1400" spc="-1" strike="noStrike">
                <a:solidFill>
                  <a:srgbClr val="000000"/>
                </a:solidFill>
                <a:latin typeface="Calibri"/>
              </a:rPr>
              <a:t>(6);</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likta ekonomiskā situācija (5);</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Biežas likumdošanas izmaiņas (5);</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sakārtota likumdošana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Emigrācija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aldības/valsts bezdarbība/nav atbalsta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erobežota pieeja finansēm uzņēmuma attīstībai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režģīta nodokļu uzskaites sistēma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gatīva investoru attieksme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Grūtības uzturēt mazo biznesu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attīstīta ražošanas nozare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labvēlīga situācija mājražotājiem/maziem uzņēmumiem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ažādas pārbaudes kavē uzņēmuma attīstību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tvijā ir mazs tirgus (3);</a:t>
            </a:r>
            <a:endParaRPr b="0" lang="en-US" sz="1400" spc="-1" strike="noStrike">
              <a:solidFill>
                <a:srgbClr val="000000"/>
              </a:solidFill>
              <a:latin typeface="Arial"/>
            </a:endParaRPr>
          </a:p>
        </p:txBody>
      </p:sp>
      <p:pic>
        <p:nvPicPr>
          <p:cNvPr id="67" name="Picture 5" descr="hcc2.gif"/>
          <p:cNvPicPr/>
          <p:nvPr/>
        </p:nvPicPr>
        <p:blipFill>
          <a:blip r:embed="rId1"/>
          <a:stretch/>
        </p:blipFill>
        <p:spPr>
          <a:xfrm>
            <a:off x="7112160" y="4714920"/>
            <a:ext cx="1693800" cy="138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1285920" y="285840"/>
            <a:ext cx="7572240" cy="5715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a konkurence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režģījumi ieviest ko jaunu/attīstīties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i sodi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likta infrastruktūra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zinošu darbinieku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godīga konkurenc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ainīga tirgus situācij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Regulāri mainās nodokļu sistēm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adekvātas VID prasīb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zglītības iestādēm pārāk liels PVN;</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tiek veicināts tūrism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Banku attieksm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garantiju/uz priekšu neko nevar paredzēt;</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audz krāpniek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ārgi seminār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pieejama informācija krievu valodā;</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ug ražošanas izdevum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inimālas peļņas iespējas.</a:t>
            </a:r>
            <a:endParaRPr b="0" lang="en-US" sz="1400" spc="-1" strike="noStrike">
              <a:solidFill>
                <a:srgbClr val="000000"/>
              </a:solidFill>
              <a:latin typeface="Arial"/>
            </a:endParaRPr>
          </a:p>
        </p:txBody>
      </p:sp>
      <p:pic>
        <p:nvPicPr>
          <p:cNvPr id="69" name="Picture 5" descr="hcc2.gif"/>
          <p:cNvPicPr/>
          <p:nvPr/>
        </p:nvPicPr>
        <p:blipFill>
          <a:blip r:embed="rId1"/>
          <a:stretch/>
        </p:blipFill>
        <p:spPr>
          <a:xfrm>
            <a:off x="7024680" y="4643280"/>
            <a:ext cx="178128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285920" y="285840"/>
            <a:ext cx="7572240" cy="5715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Respondentes (kopskaitā 90), kuras </a:t>
            </a:r>
            <a:r>
              <a:rPr b="1" lang="lv-LV" sz="1600" spc="-1" strike="noStrike" u="sng">
                <a:solidFill>
                  <a:srgbClr val="000099"/>
                </a:solidFill>
                <a:uFillTx/>
                <a:latin typeface="Calibri"/>
              </a:rPr>
              <a:t>biznesa vidi Latvijā vērtēja neitrāli</a:t>
            </a:r>
            <a:r>
              <a:rPr b="1" lang="lv-LV" sz="1600" spc="-1" strike="noStrike">
                <a:solidFill>
                  <a:srgbClr val="000000"/>
                </a:solidFill>
                <a:latin typeface="Calibri"/>
              </a:rPr>
              <a:t>, savu viedokli argumentēja sekojoši:</a:t>
            </a:r>
            <a:endParaRPr b="0" lang="en-US" sz="16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ne labi, ne slikti (17 respondent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odokļu politika/ sistēma varētu būt pretimnākošāka (8);</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Ekonomiskā situācija nav labvēlīga (6);</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aza pirktspēja (6);</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tkarīgs no cilvēku/uzņēmēju uzņēmības (6);</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aldības/valsts bezdarbība/nav atbalsta (6);</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lašas iespējas (5);</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tkarīgs no nozares (5);</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izmaiņu (5);</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i/augsti nodokļi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Biežas likumdošanas izmaiņas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garantiju/uz priekšu neko nevar paredzēt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sakārtota likumdošana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ērojami uzlabojumi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finansējuma speciālistu piesaistīšana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Regulāri mainās nodokļu sistēm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a/sarežģīta birokrātij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642960" y="571680"/>
            <a:ext cx="8001000" cy="5643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I. METODOLOĢISKĀ INFORMĀCIJA.</a:t>
            </a:r>
            <a:endParaRPr b="0" lang="en-US" sz="1600" spc="-1" strike="noStrike">
              <a:solidFill>
                <a:srgbClr val="000000"/>
              </a:solidFill>
              <a:latin typeface="Arial"/>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II. GALVENIE SECINĀJUMI.</a:t>
            </a:r>
            <a:endParaRPr b="0" lang="en-US" sz="1600" spc="-1" strike="noStrike">
              <a:solidFill>
                <a:srgbClr val="000000"/>
              </a:solidFill>
              <a:latin typeface="Arial"/>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III. PĒTĪJUMA REZULTĀTI.</a:t>
            </a:r>
            <a:endParaRPr b="0" lang="en-US" sz="1600" spc="-1" strike="noStrike">
              <a:solidFill>
                <a:srgbClr val="000000"/>
              </a:solidFill>
              <a:latin typeface="Arial"/>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000000"/>
                </a:solidFill>
                <a:latin typeface="Calibri"/>
              </a:rPr>
              <a:t>	</a:t>
            </a:r>
            <a:r>
              <a:rPr b="1" lang="lv-LV" sz="1400" spc="-1" strike="noStrike">
                <a:solidFill>
                  <a:srgbClr val="000000"/>
                </a:solidFill>
                <a:latin typeface="Calibri"/>
              </a:rPr>
              <a:t>1. Biznesa vide Latvijā.</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2. Sieviete biznesā.</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2.1. Uzņēmējdarbības uzsākšana tagad un pirms pieciem gadiem. </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2.2. Tiesiskā regulējuma šķēršļi sieviešu uzņēmējdarbībā.</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2.3. Problēmas, ar kurām nākas saskarties sievietei uzņēmējdarbībā.</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2.4. Saistošie aspekti uzņēmējdarbībā.</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2.5. Sava uzņēmuma ekonomiskā stāvokļa novērtējums.</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2.6. Finanšu atbalsta pieejamība uzņēmējdarbībā.</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2.7. Finanšu resursu piesaistes avoti.</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3. Uzņēmējdarbības atbalsta programmas.</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2.1. Uzņēmējdarbības atbalsta programmu izmantošana. </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3.2. Uzņēmējdarbības atbalsta programmu vērtējums.</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r>
              <a:rPr b="1" lang="lv-LV" sz="1400" spc="-1" strike="noStrike">
                <a:solidFill>
                  <a:srgbClr val="000000"/>
                </a:solidFill>
                <a:latin typeface="Calibri"/>
              </a:rPr>
              <a:t>3.3. Šķēršļi uzņēmējdarbības atbalsta programmu izmantošanai.</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4. Sieviešu – uzņēmēju sociāli demogrāfiskais profils un uzņēmumu raksturojums.</a:t>
            </a: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Rectangle 3"/>
          <p:cNvSpPr/>
          <p:nvPr/>
        </p:nvSpPr>
        <p:spPr>
          <a:xfrm>
            <a:off x="785880" y="142920"/>
            <a:ext cx="77724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990033"/>
                </a:solidFill>
                <a:latin typeface="Calibri"/>
              </a:rPr>
              <a:t>SAT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1285920" y="285840"/>
            <a:ext cx="7572240" cy="5715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režģīta nodokļu uzskaites sistēm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adekvātas VID prasīb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odokļu politika nosaka ienākumu līmen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darbība ar ārzemju klientie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Emigrācij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tiek veicināts tūrism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Banku attieksm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aldībai nav izstrādātas mērķtiecīgas programm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Zinoši darbiniek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tbalsts uzņēmumie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Grūtības uzturēt mazo biznes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motivācij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Reģionu nevienlīdzīb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labvēlīga situācija mājražotājiem/maziem uzņēmumie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tvijā ir mazs tirgu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a konkurenc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režģījumi ieviest ko jaunu/attīstīti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zinošu darbiniek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attīstības iespēj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500040" y="2000160"/>
            <a:ext cx="8229600" cy="250056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2. Sieviete biznesā.</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2.1. Uzņēmējdarbības uzsākšana tagad un pirms pieciem gadiem.</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142920" y="833400"/>
            <a:ext cx="7000920" cy="4683240"/>
          </a:xfrm>
          <a:prstGeom prst="rect">
            <a:avLst/>
          </a:prstGeom>
          <a:ln w="0">
            <a:noFill/>
          </a:ln>
        </p:spPr>
      </p:pic>
      <p:sp>
        <p:nvSpPr>
          <p:cNvPr id="74" name="AutoShape 4"/>
          <p:cNvSpPr/>
          <p:nvPr/>
        </p:nvSpPr>
        <p:spPr>
          <a:xfrm>
            <a:off x="7000920" y="428760"/>
            <a:ext cx="2000160" cy="5715000"/>
          </a:xfrm>
          <a:prstGeom prst="wedgeRoundRectCallout">
            <a:avLst>
              <a:gd name="adj1" fmla="val -56013"/>
              <a:gd name="adj2" fmla="val 233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Nedaudz vairāk par pusi (52%) aptaujāto sieviešu – uzņēmēju pārstāvēja viedokli, ka sievietei šobrīd uzsākt uzņēmējdarbību ir tikpat grūti kā pirms 5 gadiem. 27% respondenšu uzskata, ka tagad uzņēmējdarbību uzsākt ir vieglāk nekā pirms 5 gadiem. Pretējs, negatīvs viedoklis (“uzņēmējdarbību ir uzsākt grūtāk”) tika pārstāvēts reti – 15% gadījumu. </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Salīdzinājumā ar 2007.g.pētījuma rezultātiem, šogad ievērojami retāk bija pārstāvēts viedoklis, ka sievietei šobrīd uzsākt uzņēmējdarbību ir grūtāk nekā pirms 5 gadie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285840" y="490680"/>
            <a:ext cx="7000920" cy="5184720"/>
          </a:xfrm>
          <a:prstGeom prst="rect">
            <a:avLst/>
          </a:prstGeom>
          <a:ln w="0">
            <a:noFill/>
          </a:ln>
        </p:spPr>
      </p:pic>
      <p:sp>
        <p:nvSpPr>
          <p:cNvPr id="76" name="AutoShape 4"/>
          <p:cNvSpPr/>
          <p:nvPr/>
        </p:nvSpPr>
        <p:spPr>
          <a:xfrm>
            <a:off x="7072200" y="857160"/>
            <a:ext cx="1857600" cy="4357800"/>
          </a:xfrm>
          <a:prstGeom prst="wedgeRoundRectCallout">
            <a:avLst>
              <a:gd name="adj1" fmla="val -56013"/>
              <a:gd name="adj2" fmla="val 233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Vērojama tendence – jo salīdzinoši nesenāk ir uzsākta uzņēmējdarbība, jo biežāk pārstāvēts viedoklis, ka tagad sievietei uzņēmējdarbību uzsākt ir vieglāk nekā pirms 5 gadiem. Tas liecina, ka sievietes, kuras reāli pēdējo gadu laikā ir uzsākušas uzņēmējdarbību, vairākumā gadījumu nav saskārušās ar būtiskām problēmām uzņēmējdarbības uzsākšanas proces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210960" y="428760"/>
            <a:ext cx="6861240" cy="5411520"/>
          </a:xfrm>
          <a:prstGeom prst="rect">
            <a:avLst/>
          </a:prstGeom>
          <a:ln w="0">
            <a:noFill/>
          </a:ln>
        </p:spPr>
      </p:pic>
      <p:sp>
        <p:nvSpPr>
          <p:cNvPr id="78" name="AutoShape 4"/>
          <p:cNvSpPr/>
          <p:nvPr/>
        </p:nvSpPr>
        <p:spPr>
          <a:xfrm>
            <a:off x="7000920" y="1714680"/>
            <a:ext cx="1857240" cy="2357280"/>
          </a:xfrm>
          <a:prstGeom prst="wedgeRoundRectCallout">
            <a:avLst>
              <a:gd name="adj1" fmla="val -56013"/>
              <a:gd name="adj2" fmla="val 233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Pētījuma rezultātu analīze dažādos Latvijas reģionos atklāj, ka Rīgā un Pierīgā uzņēmējdarbības uzsākšanas iespējas kopumā tiek vērtētas pozitīvāk nekā citos Latvijas reģion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500040" y="2571840"/>
            <a:ext cx="8229600" cy="19288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2.2. Tiesiskā regulējuma šķēršļi sieviešu uzņēmējdarbīb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428760" y="357120"/>
            <a:ext cx="6057720" cy="3714840"/>
          </a:xfrm>
          <a:prstGeom prst="rect">
            <a:avLst/>
          </a:prstGeom>
          <a:ln w="0">
            <a:noFill/>
          </a:ln>
        </p:spPr>
      </p:pic>
      <p:sp>
        <p:nvSpPr>
          <p:cNvPr id="81" name="Rectangle 3"/>
          <p:cNvSpPr/>
          <p:nvPr/>
        </p:nvSpPr>
        <p:spPr>
          <a:xfrm>
            <a:off x="1285920" y="3929040"/>
            <a:ext cx="7572240" cy="2286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Tika minētas sekojošas atbild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ievietes loma ģimenē (4 respondent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azs bērnu kopšanas atvaļinājuma pabalsts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Grūtāk uzsākt savu biznes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āki interešu konflikt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tingrāk sertificē pakalpojuma sniedzēju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Finansiālas grūtības piesaistīt speciālistu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jūtams valsts atbalsts.</a:t>
            </a:r>
            <a:endParaRPr b="0" lang="en-US" sz="1400" spc="-1" strike="noStrike">
              <a:solidFill>
                <a:srgbClr val="000000"/>
              </a:solidFill>
              <a:latin typeface="Arial"/>
            </a:endParaRPr>
          </a:p>
        </p:txBody>
      </p:sp>
      <p:sp>
        <p:nvSpPr>
          <p:cNvPr id="82" name="Down Arrow 4"/>
          <p:cNvSpPr/>
          <p:nvPr/>
        </p:nvSpPr>
        <p:spPr>
          <a:xfrm>
            <a:off x="4286160" y="3429000"/>
            <a:ext cx="484200" cy="500040"/>
          </a:xfrm>
          <a:prstGeom prst="downArrow">
            <a:avLst>
              <a:gd name="adj1" fmla="val 50000"/>
              <a:gd name="adj2" fmla="val 49996"/>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4"/>
          <p:cNvSpPr/>
          <p:nvPr/>
        </p:nvSpPr>
        <p:spPr>
          <a:xfrm>
            <a:off x="6858000" y="1500120"/>
            <a:ext cx="1857240" cy="1785960"/>
          </a:xfrm>
          <a:prstGeom prst="wedgeRoundRectCallout">
            <a:avLst>
              <a:gd name="adj1" fmla="val -56013"/>
              <a:gd name="adj2" fmla="val 233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Dominējošā aptaujāto sieviešu – uzņēmēju daļa (94%) nespēja nosaukt kādus tiesiskā regulējuma šķēršļus sieviešu uzņēmējdarbībā.</a:t>
            </a:r>
            <a:endParaRPr b="0" lang="en-US" sz="1200" spc="-1" strike="noStrike">
              <a:solidFill>
                <a:srgbClr val="000000"/>
              </a:solidFill>
              <a:latin typeface="Arial"/>
            </a:endParaRPr>
          </a:p>
        </p:txBody>
      </p:sp>
      <p:pic>
        <p:nvPicPr>
          <p:cNvPr id="84" name="Picture 6" descr="car-park-barrier.jpg"/>
          <p:cNvPicPr/>
          <p:nvPr/>
        </p:nvPicPr>
        <p:blipFill>
          <a:blip r:embed="rId2"/>
          <a:stretch/>
        </p:blipFill>
        <p:spPr>
          <a:xfrm>
            <a:off x="6357960" y="4786200"/>
            <a:ext cx="2476440" cy="1001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500040" y="2571840"/>
            <a:ext cx="8229600" cy="19288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2.3. Problēmas, ar kurām nākas saskarties sievietei uzņēmējdarbīb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tretch/>
        </p:blipFill>
        <p:spPr>
          <a:xfrm>
            <a:off x="214200" y="147600"/>
            <a:ext cx="6782040" cy="5972040"/>
          </a:xfrm>
          <a:prstGeom prst="rect">
            <a:avLst/>
          </a:prstGeom>
          <a:ln w="0">
            <a:noFill/>
          </a:ln>
        </p:spPr>
      </p:pic>
      <p:sp>
        <p:nvSpPr>
          <p:cNvPr id="87" name="AutoShape 4"/>
          <p:cNvSpPr/>
          <p:nvPr/>
        </p:nvSpPr>
        <p:spPr>
          <a:xfrm>
            <a:off x="7072200" y="1500120"/>
            <a:ext cx="1857600" cy="2357640"/>
          </a:xfrm>
          <a:prstGeom prst="wedgeRoundRectCallout">
            <a:avLst>
              <a:gd name="adj1" fmla="val -62092"/>
              <a:gd name="adj2" fmla="val -4411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Aktuālākā problēma uzņēmējdarbībā – augstie nodokļi. To, kā ļoti vai drīzāk aktuālu problēmu, nosauca vairāk nekā trīs ceturtdaļas (80%) aptaujāto sieviešu – uzņēmēju.</a:t>
            </a:r>
            <a:endParaRPr b="0" lang="en-US" sz="1200" spc="-1" strike="noStrike">
              <a:solidFill>
                <a:srgbClr val="000000"/>
              </a:solidFill>
              <a:latin typeface="Arial"/>
            </a:endParaRPr>
          </a:p>
        </p:txBody>
      </p:sp>
      <p:sp>
        <p:nvSpPr>
          <p:cNvPr id="88" name="Oval 1060"/>
          <p:cNvSpPr/>
          <p:nvPr/>
        </p:nvSpPr>
        <p:spPr>
          <a:xfrm>
            <a:off x="2643120" y="1143000"/>
            <a:ext cx="3214800" cy="500040"/>
          </a:xfrm>
          <a:prstGeom prst="ellipse">
            <a:avLst/>
          </a:prstGeom>
          <a:noFill/>
          <a:ln w="38160">
            <a:solidFill>
              <a:srgbClr val="7030a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214200" y="147600"/>
            <a:ext cx="6782040" cy="5972040"/>
          </a:xfrm>
          <a:prstGeom prst="rect">
            <a:avLst/>
          </a:prstGeom>
          <a:ln w="0">
            <a:noFill/>
          </a:ln>
        </p:spPr>
      </p:pic>
      <p:pic>
        <p:nvPicPr>
          <p:cNvPr id="90" name="Picture 2" descr="20080206_problem_solving.jpg"/>
          <p:cNvPicPr/>
          <p:nvPr/>
        </p:nvPicPr>
        <p:blipFill>
          <a:blip r:embed="rId2"/>
          <a:stretch/>
        </p:blipFill>
        <p:spPr>
          <a:xfrm>
            <a:off x="7143840" y="3857760"/>
            <a:ext cx="1643040" cy="173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857160" y="714240"/>
            <a:ext cx="7239240" cy="8287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99"/>
                </a:solidFill>
                <a:latin typeface="Verdana"/>
              </a:rPr>
              <a:t>I. Metodoloģiskā informācija</a:t>
            </a:r>
            <a:endParaRPr b="0" lang="en-US" sz="2400" spc="-1" strike="noStrike">
              <a:solidFill>
                <a:srgbClr val="000000"/>
              </a:solidFill>
              <a:latin typeface="Arial"/>
            </a:endParaRPr>
          </a:p>
        </p:txBody>
      </p:sp>
      <p:graphicFrame>
        <p:nvGraphicFramePr>
          <p:cNvPr id="50" name=""/>
          <p:cNvGraphicFramePr/>
          <p:nvPr/>
        </p:nvGraphicFramePr>
        <p:xfrm>
          <a:off x="642960" y="1857240"/>
          <a:ext cx="7786800" cy="1587600"/>
        </p:xfrm>
        <a:graphic>
          <a:graphicData uri="http://schemas.openxmlformats.org/drawingml/2006/table">
            <a:tbl>
              <a:tblPr/>
              <a:tblGrid>
                <a:gridCol w="2689200"/>
                <a:gridCol w="5097600"/>
              </a:tblGrid>
              <a:tr h="90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Calibri"/>
                          <a:ea typeface="Times New Roman"/>
                        </a:rPr>
                        <a:t>IZLASE:</a:t>
                      </a:r>
                      <a:r>
                        <a:rPr b="0" lang="en-GB" sz="1600" spc="-1" strike="noStrike">
                          <a:solidFill>
                            <a:srgbClr val="000000"/>
                          </a:solidFill>
                          <a:latin typeface="Calibri"/>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000"/>
                    </a:solidFill>
                  </a:tcPr>
                </a:tc>
                <a:tc>
                  <a:txBody>
                    <a:bodyPr lIns="90000" rIns="90000" tIns="46800" bIns="46800" anchor="t">
                      <a:no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200 Latvijas sievietes – uzņēmējas (uzņēmuma īpašnieces un vadītājas).</a:t>
                      </a:r>
                      <a:endParaRPr b="0" lang="en-US" sz="1400" spc="-1" strike="noStrike">
                        <a:solidFill>
                          <a:srgbClr val="000000"/>
                        </a:solidFill>
                        <a:latin typeface="Arial"/>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Izlases veidošanā tika izmantota “Lursoft” datu bāze.</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5b5"/>
                    </a:solidFill>
                  </a:tcPr>
                </a:tc>
              </a:tr>
              <a:tr h="349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Calibri"/>
                          <a:ea typeface="Times New Roman"/>
                        </a:rPr>
                        <a:t>METODE:</a:t>
                      </a:r>
                      <a:r>
                        <a:rPr b="0" lang="en-GB" sz="1600" spc="-1" strike="noStrike">
                          <a:solidFill>
                            <a:srgbClr val="000000"/>
                          </a:solidFill>
                          <a:latin typeface="Calibri"/>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000"/>
                    </a:solidFill>
                  </a:tcPr>
                </a:tc>
                <a:tc>
                  <a:txBody>
                    <a:bodyPr lIns="90000" rIns="90000" tIns="46800" bIns="46800" anchor="t">
                      <a:noAutofit/>
                    </a:bodyPr>
                    <a:p>
                      <a:pPr marL="290520" indent="-32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Telefonintervija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5b5"/>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Calibri"/>
                          <a:ea typeface="Times New Roman"/>
                        </a:rPr>
                        <a:t>INTERV</a:t>
                      </a:r>
                      <a:r>
                        <a:rPr b="1" lang="lv-LV" sz="1600" spc="-1" strike="noStrike" u="sng">
                          <a:solidFill>
                            <a:srgbClr val="000000"/>
                          </a:solidFill>
                          <a:uFillTx/>
                          <a:latin typeface="Calibri"/>
                        </a:rPr>
                        <a:t>Ē</a:t>
                      </a:r>
                      <a:r>
                        <a:rPr b="1" lang="lv-LV" sz="1600" spc="-1" strike="noStrike" u="sng">
                          <a:solidFill>
                            <a:srgbClr val="000000"/>
                          </a:solidFill>
                          <a:uFillTx/>
                          <a:latin typeface="Calibri"/>
                          <a:ea typeface="Times New Roman"/>
                        </a:rPr>
                        <a:t>ŠANAS LAIKS:</a:t>
                      </a:r>
                      <a:r>
                        <a:rPr b="0" lang="en-GB" sz="1600" spc="-1" strike="noStrike">
                          <a:solidFill>
                            <a:srgbClr val="000000"/>
                          </a:solidFill>
                          <a:latin typeface="Calibri"/>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06.11.2012. – 26.11.2012.</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5b5"/>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571680" y="209520"/>
            <a:ext cx="6333840" cy="5829480"/>
          </a:xfrm>
          <a:prstGeom prst="rect">
            <a:avLst/>
          </a:prstGeom>
          <a:ln w="0">
            <a:noFill/>
          </a:ln>
        </p:spPr>
      </p:pic>
      <p:sp>
        <p:nvSpPr>
          <p:cNvPr id="92" name="AutoShape 4"/>
          <p:cNvSpPr/>
          <p:nvPr/>
        </p:nvSpPr>
        <p:spPr>
          <a:xfrm>
            <a:off x="7072200" y="1500120"/>
            <a:ext cx="1857600" cy="3357720"/>
          </a:xfrm>
          <a:prstGeom prst="wedgeRoundRectCallout">
            <a:avLst>
              <a:gd name="adj1" fmla="val -62092"/>
              <a:gd name="adj2" fmla="val -4411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Pārliecinoši aktuālākā problēma biznesā – augstie nodokļi. </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Nākamās vietas aktuālāko problēmu sarakstā ieņem:</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Kontrolējošo institūciju lielais skaits/ kontroļu formālais rakstur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Konkurence;</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Grūtības ar uzņēmuma tālāku attīstīb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785880" y="285840"/>
            <a:ext cx="6329160" cy="5824440"/>
          </a:xfrm>
          <a:prstGeom prst="rect">
            <a:avLst/>
          </a:prstGeom>
          <a:ln w="0">
            <a:noFill/>
          </a:ln>
        </p:spPr>
      </p:pic>
      <p:sp>
        <p:nvSpPr>
          <p:cNvPr id="94" name="AutoShape 4"/>
          <p:cNvSpPr/>
          <p:nvPr/>
        </p:nvSpPr>
        <p:spPr>
          <a:xfrm>
            <a:off x="6786720" y="2214720"/>
            <a:ext cx="2214360" cy="3786120"/>
          </a:xfrm>
          <a:prstGeom prst="wedgeRoundRectCallout">
            <a:avLst>
              <a:gd name="adj1" fmla="val -55550"/>
              <a:gd name="adj2" fmla="val -1755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Salīdzinājumā ar 2007.g.pētījuma rezultātiem pieaugusi tādu jautājumu aktualitāte, kā:</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Kvalificēta darba spēka trūkum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Grūti pieejami kredīti/ finansu avoti;</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Problēmas realizēt savu produkciju/ pakalpojumu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Negodīgi biznesa partneri un klienti;</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Nesavlaicīgi norēķini par sniegtajiem pakalpojumiem/ realizēto produkciju.</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
          <p:cNvPicPr/>
          <p:nvPr/>
        </p:nvPicPr>
        <p:blipFill>
          <a:blip r:embed="rId1"/>
          <a:stretch/>
        </p:blipFill>
        <p:spPr>
          <a:xfrm>
            <a:off x="681120" y="217440"/>
            <a:ext cx="5676840" cy="6069240"/>
          </a:xfrm>
          <a:prstGeom prst="rect">
            <a:avLst/>
          </a:prstGeom>
          <a:ln w="0">
            <a:noFill/>
          </a:ln>
        </p:spPr>
      </p:pic>
      <p:sp>
        <p:nvSpPr>
          <p:cNvPr id="96" name="Oval 1060"/>
          <p:cNvSpPr/>
          <p:nvPr/>
        </p:nvSpPr>
        <p:spPr>
          <a:xfrm>
            <a:off x="5072040" y="785880"/>
            <a:ext cx="571680" cy="57132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4"/>
          <p:cNvSpPr/>
          <p:nvPr/>
        </p:nvSpPr>
        <p:spPr>
          <a:xfrm>
            <a:off x="6786720" y="1071720"/>
            <a:ext cx="1857240" cy="1643040"/>
          </a:xfrm>
          <a:prstGeom prst="wedgeRoundRectCallout">
            <a:avLst>
              <a:gd name="adj1" fmla="val -62092"/>
              <a:gd name="adj2" fmla="val -4411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Augsti nodokļi – galvenā problēma uzņēmējdarbībā vairāk nekā ceturtajai daļai (27%) pētījuma dalībnieč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357120" y="141120"/>
            <a:ext cx="6067440" cy="6208920"/>
          </a:xfrm>
          <a:prstGeom prst="rect">
            <a:avLst/>
          </a:prstGeom>
          <a:ln w="0">
            <a:noFill/>
          </a:ln>
        </p:spPr>
      </p:pic>
      <p:sp>
        <p:nvSpPr>
          <p:cNvPr id="99" name="Oval 1060"/>
          <p:cNvSpPr/>
          <p:nvPr/>
        </p:nvSpPr>
        <p:spPr>
          <a:xfrm>
            <a:off x="5500800" y="642960"/>
            <a:ext cx="571320" cy="57132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5" descr="Tax-Burden.jpg"/>
          <p:cNvPicPr/>
          <p:nvPr/>
        </p:nvPicPr>
        <p:blipFill>
          <a:blip r:embed="rId2"/>
          <a:stretch/>
        </p:blipFill>
        <p:spPr>
          <a:xfrm>
            <a:off x="6431040" y="3429000"/>
            <a:ext cx="2508120" cy="250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
          <p:cNvPicPr/>
          <p:nvPr/>
        </p:nvPicPr>
        <p:blipFill>
          <a:blip r:embed="rId1"/>
          <a:stretch/>
        </p:blipFill>
        <p:spPr>
          <a:xfrm>
            <a:off x="426960" y="142920"/>
            <a:ext cx="6073920" cy="6215040"/>
          </a:xfrm>
          <a:prstGeom prst="rect">
            <a:avLst/>
          </a:prstGeom>
          <a:ln w="0">
            <a:noFill/>
          </a:ln>
        </p:spPr>
      </p:pic>
      <p:sp>
        <p:nvSpPr>
          <p:cNvPr id="102" name="Oval 1060"/>
          <p:cNvSpPr/>
          <p:nvPr/>
        </p:nvSpPr>
        <p:spPr>
          <a:xfrm>
            <a:off x="5570640" y="642960"/>
            <a:ext cx="571320" cy="57132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4"/>
          <p:cNvSpPr/>
          <p:nvPr/>
        </p:nvSpPr>
        <p:spPr>
          <a:xfrm>
            <a:off x="6786720" y="1071720"/>
            <a:ext cx="1857240" cy="2857320"/>
          </a:xfrm>
          <a:prstGeom prst="wedgeRoundRectCallout">
            <a:avLst>
              <a:gd name="adj1" fmla="val -62092"/>
              <a:gd name="adj2" fmla="val -4411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Augsti nodokļi – vienīgais  faktors, ko vairākums  (62%) sieviešu – uzņēmēju, ierindoja trīs nozīmīgāko problēmu vidū, kas kavējušas viņu uzņēmuma attīstību.</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Citas problēmas tika minētas retāk nekā 30% gadījum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714240" y="571680"/>
            <a:ext cx="6810480" cy="4508280"/>
          </a:xfrm>
          <a:prstGeom prst="rect">
            <a:avLst/>
          </a:prstGeom>
          <a:ln w="0">
            <a:noFill/>
          </a:ln>
        </p:spPr>
      </p:pic>
      <p:sp>
        <p:nvSpPr>
          <p:cNvPr id="105" name="AutoShape 4"/>
          <p:cNvSpPr/>
          <p:nvPr/>
        </p:nvSpPr>
        <p:spPr>
          <a:xfrm>
            <a:off x="6715080" y="1214280"/>
            <a:ext cx="2286000" cy="2214720"/>
          </a:xfrm>
          <a:prstGeom prst="wedgeRoundRectCallout">
            <a:avLst>
              <a:gd name="adj1" fmla="val -63916"/>
              <a:gd name="adj2" fmla="val -14851"/>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Gandrīz katrai otrajai  (49%) uzņēmējai vislielākās grūtības biznesā bija uzņēmuma attīstības un paplašināšanās fāzē. Nedaudz mazākam aptaujas dalībnieču skaitam (41%) vislielākās grūtības  bija uzņēmuma uzsākšanas (pirmie 3 gadi) fāz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901800" y="571680"/>
            <a:ext cx="6892920" cy="5103720"/>
          </a:xfrm>
          <a:prstGeom prst="rect">
            <a:avLst/>
          </a:prstGeom>
          <a:ln w="0">
            <a:noFill/>
          </a:ln>
        </p:spPr>
      </p:pic>
      <p:sp>
        <p:nvSpPr>
          <p:cNvPr id="107" name="AutoShape 4"/>
          <p:cNvSpPr/>
          <p:nvPr/>
        </p:nvSpPr>
        <p:spPr>
          <a:xfrm>
            <a:off x="7215120" y="1214280"/>
            <a:ext cx="1785960" cy="2428920"/>
          </a:xfrm>
          <a:prstGeom prst="wedgeRoundRectCallout">
            <a:avLst>
              <a:gd name="adj1" fmla="val -63916"/>
              <a:gd name="adj2" fmla="val -26472"/>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Pētījuma rezultāti iezīmē tendenci – jo lielāks uzņēmums, jo biežāk tika pārstāvēts viedoklis, ka vislielākās grūtības biznesā bija uzņēmuma attīstības un paplašināšanās fāzē.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500040" y="2714760"/>
            <a:ext cx="8229600" cy="178596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2.4. Saistošie aspekti uzņēmējdarbīb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824040" y="142920"/>
            <a:ext cx="5819760" cy="6221520"/>
          </a:xfrm>
          <a:prstGeom prst="rect">
            <a:avLst/>
          </a:prstGeom>
          <a:ln w="0">
            <a:noFill/>
          </a:ln>
        </p:spPr>
      </p:pic>
      <p:sp>
        <p:nvSpPr>
          <p:cNvPr id="110" name="AutoShape 4"/>
          <p:cNvSpPr/>
          <p:nvPr/>
        </p:nvSpPr>
        <p:spPr>
          <a:xfrm>
            <a:off x="6786720" y="1214280"/>
            <a:ext cx="2143080" cy="2928960"/>
          </a:xfrm>
          <a:prstGeom prst="wedgeRoundRectCallout">
            <a:avLst>
              <a:gd name="adj1" fmla="val -63916"/>
              <a:gd name="adj2" fmla="val -26472"/>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Svarīgākie motīvi, kas sievieti piesaista uzņēmējdarbībai (minēja vairāk nekā 80% aptaujas dalībnieču):</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Iespēja  darīt darbu, kas pašai patīk;</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Iespēja realizēt sevi;</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Iespēja būt neatkarīgai;</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Iespēja nodarboties pašai ar savu biznesu;</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Iespēja uzturēt ģimeni.</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500040" y="2714760"/>
            <a:ext cx="8229600" cy="178596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2.5. Sava uzņēmuma ekonomiskā stāvokļa novērtēju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914400" y="2743200"/>
            <a:ext cx="7238880" cy="12193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600" spc="-1" strike="noStrike">
                <a:solidFill>
                  <a:srgbClr val="000099"/>
                </a:solidFill>
                <a:latin typeface="Verdana"/>
              </a:rPr>
              <a:t>II. Galvenie secinājum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2920" y="785880"/>
            <a:ext cx="7049880" cy="4714920"/>
          </a:xfrm>
          <a:prstGeom prst="rect">
            <a:avLst/>
          </a:prstGeom>
          <a:ln w="0">
            <a:noFill/>
          </a:ln>
        </p:spPr>
      </p:pic>
      <p:sp>
        <p:nvSpPr>
          <p:cNvPr id="113" name="AutoShape 4"/>
          <p:cNvSpPr/>
          <p:nvPr/>
        </p:nvSpPr>
        <p:spPr>
          <a:xfrm>
            <a:off x="7143840" y="1571760"/>
            <a:ext cx="1857240" cy="4572000"/>
          </a:xfrm>
          <a:prstGeom prst="wedgeRoundRectCallout">
            <a:avLst>
              <a:gd name="adj1" fmla="val -56013"/>
              <a:gd name="adj2" fmla="val -30310"/>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Sava uzņēmuma attīstību pēdējo 2 gadu laikā pozitīvi vērtēja 41,5% aptaujāto sieviešu - uzņēmēju . Kritisku vērtējumu pārstāvēja 19% pētījuma dalībnieču. 28% respondenšu atzina, ka viņu uzņēmuma ekonomiskā situācija pēdējo 2 gadu laikā nav būtiski mainījusies. </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7.g.pētījumā uzņēmumu ekonomiskās situācijas attīstība ievērojami biežāk  (61% gadījumu) tika vērtēta pozitīv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285840" y="500040"/>
            <a:ext cx="6713280" cy="5294160"/>
          </a:xfrm>
          <a:prstGeom prst="rect">
            <a:avLst/>
          </a:prstGeom>
          <a:ln w="0">
            <a:noFill/>
          </a:ln>
        </p:spPr>
      </p:pic>
      <p:sp>
        <p:nvSpPr>
          <p:cNvPr id="115" name="AutoShape 4"/>
          <p:cNvSpPr/>
          <p:nvPr/>
        </p:nvSpPr>
        <p:spPr>
          <a:xfrm>
            <a:off x="7000920" y="1714680"/>
            <a:ext cx="1857240" cy="2357280"/>
          </a:xfrm>
          <a:prstGeom prst="wedgeRoundRectCallout">
            <a:avLst>
              <a:gd name="adj1" fmla="val -56620"/>
              <a:gd name="adj2" fmla="val -4986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Pētījuma rezultātu analīze dažādos Latvijas reģionos atklāj, ka Rīgā un Pierīgā uzņēmumu ekonomiskās situācijas attīstība biežāk  tika vērtēta pozitīvi nekā citos Latvijas reģion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285840" y="785880"/>
            <a:ext cx="7073640" cy="5238720"/>
          </a:xfrm>
          <a:prstGeom prst="rect">
            <a:avLst/>
          </a:prstGeom>
          <a:ln w="0">
            <a:noFill/>
          </a:ln>
        </p:spPr>
      </p:pic>
      <p:sp>
        <p:nvSpPr>
          <p:cNvPr id="117" name="AutoShape 4"/>
          <p:cNvSpPr/>
          <p:nvPr/>
        </p:nvSpPr>
        <p:spPr>
          <a:xfrm>
            <a:off x="7000920" y="2357280"/>
            <a:ext cx="1857240" cy="2000520"/>
          </a:xfrm>
          <a:prstGeom prst="wedgeRoundRectCallout">
            <a:avLst>
              <a:gd name="adj1" fmla="val -73638"/>
              <a:gd name="adj2" fmla="val 2962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Pētījuma rezultāti iezīmē tendenci – jo senāk ir uzsākta uzņēmējdarbība, jo biežāk uzņēmuma ekonomiskās situācijas attīstība vērtēta kritisk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Aptaujas dalībnieces tika lūgtas paskaidrot sava uzņēmuma ekonomiskā stāvokļa vērtējumu – </a:t>
            </a:r>
            <a:r>
              <a:rPr b="1" i="1" lang="lv-LV" sz="1600" spc="-1" strike="noStrike">
                <a:solidFill>
                  <a:srgbClr val="000000"/>
                </a:solidFill>
                <a:latin typeface="Calibri"/>
              </a:rPr>
              <a:t>“Kādi iemesli ir noteikuši to, ka Jūsu uzņēmuma ekonomiskais stāvoklis pēdējo divu gadu laikā ir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endParaRPr b="0" lang="en-US" sz="1400" spc="-1" strike="noStrike">
              <a:solidFill>
                <a:srgbClr val="000000"/>
              </a:solidFill>
              <a:latin typeface="Arial"/>
            </a:endParaRPr>
          </a:p>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Respondentes (kopskaitā 83), kuru skatījumā </a:t>
            </a:r>
            <a:r>
              <a:rPr b="1" lang="lv-LV" sz="1600" spc="-1" strike="noStrike">
                <a:solidFill>
                  <a:srgbClr val="000099"/>
                </a:solidFill>
                <a:latin typeface="Calibri"/>
              </a:rPr>
              <a:t>uzņēmuma ekonomiskais stāvoklis pēdējo 2 gadu laikā ir uzlabojies</a:t>
            </a:r>
            <a:r>
              <a:rPr b="1" lang="lv-LV" sz="1600" spc="-1" strike="noStrike">
                <a:solidFill>
                  <a:srgbClr val="000000"/>
                </a:solidFill>
                <a:latin typeface="Calibri"/>
              </a:rPr>
              <a:t>, to pamatoja sekojoši:</a:t>
            </a:r>
            <a:endParaRPr b="0" lang="en-US" sz="16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Attīstas/uzlabojas Latvijas ekonomika (</a:t>
            </a:r>
            <a:r>
              <a:rPr b="1" i="1" lang="lv-LV" sz="1400" spc="-1" strike="noStrike">
                <a:solidFill>
                  <a:srgbClr val="000000"/>
                </a:solidFill>
                <a:latin typeface="Calibri"/>
              </a:rPr>
              <a:t>19 respondentes);</a:t>
            </a:r>
            <a:endParaRPr b="0" lang="en-US" sz="14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Sekmīga uzņēmuma attīstība/ pašu darbs </a:t>
            </a:r>
            <a:r>
              <a:rPr b="1" i="1" lang="lv-LV" sz="1400" spc="-1" strike="noStrike">
                <a:solidFill>
                  <a:srgbClr val="000000"/>
                </a:solidFill>
                <a:latin typeface="Calibri"/>
              </a:rPr>
              <a:t>(14 respondentes);</a:t>
            </a:r>
            <a:endParaRPr b="0" lang="en-US" sz="14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Pieaug klientu skaits </a:t>
            </a:r>
            <a:r>
              <a:rPr b="1" i="1" lang="lv-LV" sz="1400" spc="-1" strike="noStrike">
                <a:solidFill>
                  <a:srgbClr val="000000"/>
                </a:solidFill>
                <a:latin typeface="Calibri"/>
              </a:rPr>
              <a:t>(11)</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ekarota klientu uzticība/ savs klientu loks (9);</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audzis apgrozījums (9);</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rodukta/zīmola/uzņēmuma atpazīstamība (6);</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redze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Kvalitatīvs piedāvātais produkts/pakalpojums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roduktu mērķtiecīga virzība tirgū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ttīstas nozare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omaksāts bankas kredīts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zdevumu kontrolēšana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Jaunu ideju realizēšan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pmācīti darbiniek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9" name="Picture 2" descr="Pozitiivs_sejinja737-150x150.png"/>
          <p:cNvPicPr/>
          <p:nvPr/>
        </p:nvPicPr>
        <p:blipFill>
          <a:blip r:embed="rId1"/>
          <a:stretch/>
        </p:blipFill>
        <p:spPr>
          <a:xfrm>
            <a:off x="7072200" y="4429080"/>
            <a:ext cx="1643040" cy="1643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ba stratēģijas plānošan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airāk risk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Cītīga darbinieku atlas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az klient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aza pirktspēj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aug klientu maksātspēj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tkarība no klientu finansiālajām iespējā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ktīva klientu piesaistīšan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ba sadarbība ar klientie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alsts finansiālā palīdzība uzņēmumie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prasīts produkts/pakalpojum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dāvā izdevīgu cenu par produktu/pakalpojum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Uzņēmuma paplašināšanā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egūta finansiālā stabilitāt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alielinājies darbinieku skaits.</a:t>
            </a:r>
            <a:endParaRPr b="0" lang="en-US" sz="1400" spc="-1" strike="noStrike">
              <a:solidFill>
                <a:srgbClr val="000000"/>
              </a:solidFill>
              <a:latin typeface="Arial"/>
            </a:endParaRPr>
          </a:p>
        </p:txBody>
      </p:sp>
      <p:pic>
        <p:nvPicPr>
          <p:cNvPr id="121" name="Picture 2" descr="Pozitiivs_sejinja737-150x150.png"/>
          <p:cNvPicPr/>
          <p:nvPr/>
        </p:nvPicPr>
        <p:blipFill>
          <a:blip r:embed="rId1"/>
          <a:stretch/>
        </p:blipFill>
        <p:spPr>
          <a:xfrm>
            <a:off x="7000920" y="4357800"/>
            <a:ext cx="1643040" cy="1643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Respondentes (kopskaitā 38), kuru skatījumā </a:t>
            </a:r>
            <a:r>
              <a:rPr b="1" lang="lv-LV" sz="1600" spc="-1" strike="noStrike">
                <a:solidFill>
                  <a:srgbClr val="000099"/>
                </a:solidFill>
                <a:latin typeface="Calibri"/>
              </a:rPr>
              <a:t>uzņēmuma ekonomiskais stāvoklis pēdējo 2 gadu laikā ir pasliktinājies</a:t>
            </a:r>
            <a:r>
              <a:rPr b="1" lang="lv-LV" sz="1600" spc="-1" strike="noStrike">
                <a:solidFill>
                  <a:srgbClr val="000000"/>
                </a:solidFill>
                <a:latin typeface="Calibri"/>
              </a:rPr>
              <a:t>, to pamatoja sekojoši:</a:t>
            </a:r>
            <a:endParaRPr b="0" lang="en-US" sz="16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Maza pirktspēja/ atkarība no klientu finansiālajām iespējām </a:t>
            </a:r>
            <a:r>
              <a:rPr b="1" i="1" lang="lv-LV" sz="1400" spc="-1" strike="noStrike">
                <a:solidFill>
                  <a:srgbClr val="000000"/>
                </a:solidFill>
                <a:latin typeface="Calibri"/>
              </a:rPr>
              <a:t>(6 respondentes);</a:t>
            </a:r>
            <a:endParaRPr b="0" lang="en-US" sz="14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Nodokļu slogs/ lieli nodokļi </a:t>
            </a:r>
            <a:r>
              <a:rPr b="1" i="1" lang="lv-LV" sz="1400" spc="-1" strike="noStrike">
                <a:solidFill>
                  <a:srgbClr val="000000"/>
                </a:solidFill>
                <a:latin typeface="Calibri"/>
              </a:rPr>
              <a:t>(5);</a:t>
            </a:r>
            <a:endParaRPr b="0" lang="en-US" sz="14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Slikta ekonomiskā situācija valstī </a:t>
            </a:r>
            <a:r>
              <a:rPr b="1" i="1" lang="lv-LV" sz="1400" spc="-1" strike="noStrike">
                <a:solidFill>
                  <a:srgbClr val="000000"/>
                </a:solidFill>
                <a:latin typeface="Calibri"/>
              </a:rPr>
              <a:t>(5);</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Cenu pieaugums (izejmateriāli, degviela)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godīgi/nekorekti sadarbības partneri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az klientu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sakārtota likumdošana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a konkurence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godīga konkurence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mazinājies apgrozījums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Emigrācij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eselības problēm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ituācija ģimenē;</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Cilvēku pasivitāt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Grūtības realizēt produktus tirgū;</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pieaugusi peļņ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nflācija/cenu pieaugum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arba spēka trūkums.</a:t>
            </a:r>
            <a:endParaRPr b="0" lang="en-US" sz="1400" spc="-1" strike="noStrike">
              <a:solidFill>
                <a:srgbClr val="000000"/>
              </a:solidFill>
              <a:latin typeface="Arial"/>
            </a:endParaRPr>
          </a:p>
        </p:txBody>
      </p:sp>
      <p:pic>
        <p:nvPicPr>
          <p:cNvPr id="123" name="Picture 8" descr="facenotok.gif"/>
          <p:cNvPicPr/>
          <p:nvPr/>
        </p:nvPicPr>
        <p:blipFill>
          <a:blip r:embed="rId1"/>
          <a:stretch/>
        </p:blipFill>
        <p:spPr>
          <a:xfrm>
            <a:off x="7215120" y="4572000"/>
            <a:ext cx="1405080" cy="1405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Respondentes (kopskaitā 56), kuru skatījumā </a:t>
            </a:r>
            <a:r>
              <a:rPr b="1" lang="lv-LV" sz="1600" spc="-1" strike="noStrike">
                <a:solidFill>
                  <a:srgbClr val="000099"/>
                </a:solidFill>
                <a:latin typeface="Calibri"/>
              </a:rPr>
              <a:t>uzņēmuma ekonomiskais stāvoklis pēdējo 2 gadu laikā nav mainījies</a:t>
            </a:r>
            <a:r>
              <a:rPr b="1" lang="lv-LV" sz="1600" spc="-1" strike="noStrike">
                <a:solidFill>
                  <a:srgbClr val="000000"/>
                </a:solidFill>
                <a:latin typeface="Calibri"/>
              </a:rPr>
              <a:t>, to pamatoja sekojoši:</a:t>
            </a:r>
            <a:endParaRPr b="0" lang="en-US" sz="16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Maz klientu </a:t>
            </a:r>
            <a:r>
              <a:rPr b="1" i="1" lang="lv-LV" sz="1400" spc="-1" strike="noStrike">
                <a:solidFill>
                  <a:srgbClr val="000000"/>
                </a:solidFill>
                <a:latin typeface="Calibri"/>
              </a:rPr>
              <a:t>(6 respondentes);</a:t>
            </a:r>
            <a:endParaRPr b="0" lang="en-US" sz="14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Lieli nodokļi/  nodokļu slogs </a:t>
            </a:r>
            <a:r>
              <a:rPr b="1" i="1" lang="lv-LV" sz="1400" spc="-1" strike="noStrike">
                <a:solidFill>
                  <a:srgbClr val="000000"/>
                </a:solidFill>
                <a:latin typeface="Calibri"/>
              </a:rPr>
              <a:t>(5);</a:t>
            </a:r>
            <a:endParaRPr b="0" lang="en-US" sz="14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Nav/nebija vēlmes/mērķis paplašināties </a:t>
            </a:r>
            <a:r>
              <a:rPr b="1" i="1" lang="lv-LV" sz="1400" spc="-1" strike="noStrike">
                <a:solidFill>
                  <a:srgbClr val="000000"/>
                </a:solidFill>
                <a:latin typeface="Calibri"/>
              </a:rPr>
              <a:t>(5);</a:t>
            </a:r>
            <a:endParaRPr b="0" lang="en-US" sz="1400" spc="-1" strike="noStrike">
              <a:solidFill>
                <a:srgbClr val="000000"/>
              </a:solidFill>
              <a:latin typeface="Arial"/>
            </a:endParaRPr>
          </a:p>
          <a:p>
            <a:pPr lvl="1" marL="914400" indent="-457200">
              <a:lnSpc>
                <a:spcPct val="120000"/>
              </a:lnSpc>
              <a:spcBef>
                <a:spcPts val="201"/>
              </a:spcBef>
              <a:buClr>
                <a:srgbClr val="00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99"/>
                </a:solidFill>
                <a:latin typeface="Calibri"/>
              </a:rPr>
              <a:t>Ekonomiskā situācija valstī nav labvēlīga </a:t>
            </a:r>
            <a:r>
              <a:rPr b="1" i="1" lang="lv-LV" sz="1400" spc="-1" strike="noStrike">
                <a:solidFill>
                  <a:srgbClr val="000000"/>
                </a:solidFill>
                <a:latin typeface="Calibri"/>
              </a:rPr>
              <a:t>(5);</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Emigrācija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Finansējuma trūkums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arba spēka trūkums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ba stratēģijas plānošana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a konkurence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av pieaugusi peļņa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isas idejas ir tikai plānots realizēt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ašu darb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Jaunu ideju realizēšan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ituācija ģimenē;</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redzes trūkum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godīgi/nekorekti sadarbības partner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risk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riskē;</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aza pirktspēj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sakārtota likumdošan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azinās konkurence;</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tabila darbības jom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i ieguldījumi jauniem produktie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Biznesam ir sezonāls rakstur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tabils tirgu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nflācija/cenu pieaugum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stabils tirgu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Kredītu nepieejamīb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eiksmīga uzņēmuma attīstī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500040" y="2714760"/>
            <a:ext cx="8229600" cy="178596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2.6. Finanšu atbalsta pieejamība uzņēmējdarbīb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285840" y="1143000"/>
            <a:ext cx="6799320" cy="4500720"/>
          </a:xfrm>
          <a:prstGeom prst="rect">
            <a:avLst/>
          </a:prstGeom>
          <a:ln w="0">
            <a:noFill/>
          </a:ln>
        </p:spPr>
      </p:pic>
      <p:sp>
        <p:nvSpPr>
          <p:cNvPr id="128" name="AutoShape 4"/>
          <p:cNvSpPr/>
          <p:nvPr/>
        </p:nvSpPr>
        <p:spPr>
          <a:xfrm>
            <a:off x="7072200" y="1357200"/>
            <a:ext cx="1857600" cy="2714760"/>
          </a:xfrm>
          <a:prstGeom prst="wedgeRoundRectCallout">
            <a:avLst>
              <a:gd name="adj1" fmla="val -73032"/>
              <a:gd name="adj2" fmla="val 28500"/>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Vairākums (58%) aptaujāto sieviešu – uzņēmēju finanšu atbalsta pieejamību uzņēmējdarbībai vērtēja kritiski. Uzskatu, ka finanšu atbalsts pieejams viegli vai diezgan viegli, pārstāvēja 24% pētījuma dalībnieč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500040" y="500040"/>
            <a:ext cx="8358120" cy="557208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99"/>
                </a:solidFill>
                <a:latin typeface="Calibri"/>
              </a:rPr>
              <a:t>1. Biznesa vide Latvijā.</a:t>
            </a:r>
            <a:endParaRPr b="0" lang="en-US" sz="1600" spc="-1" strike="noStrike">
              <a:solidFill>
                <a:srgbClr val="000000"/>
              </a:solidFill>
              <a:latin typeface="Arial"/>
            </a:endParaRPr>
          </a:p>
          <a:p>
            <a:pPr marL="457200" indent="-457200"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Biznesa vidi Latvijā gandrīz puse (45%) aptaujāto sieviešu – uzņēmēju raksturoja kā neitrālu. </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38% pētījuma dalībnieču biznesa vidi Latvijā novērtēja kā nelabvēlīgu, biznesa attīstību traucējošu. Galvenie argumenti šādam uzskatam – </a:t>
            </a:r>
            <a:r>
              <a:rPr b="1" i="1" lang="lv-LV" sz="1400" spc="-1" strike="noStrike">
                <a:solidFill>
                  <a:srgbClr val="000000"/>
                </a:solidFill>
                <a:latin typeface="Calibri"/>
              </a:rPr>
              <a:t>Lieli/augsti nodokļi/ nodokļu politika; Liela/sarežģīta birokrātija; Maza pirktspēja</a:t>
            </a:r>
            <a:r>
              <a:rPr b="1" lang="lv-LV" sz="1400" spc="-1" strike="noStrike">
                <a:solidFill>
                  <a:srgbClr val="000000"/>
                </a:solidFill>
                <a:latin typeface="Calibri"/>
              </a:rPr>
              <a:t>.</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ozitīvu viedokli (“labvēlīga, biznesa attīstību veicinoša” pārstāvēja 14% sieviešu – uzņēmēju. Biežāk minētais pamatojums – </a:t>
            </a:r>
            <a:r>
              <a:rPr b="1" i="1" lang="lv-LV" sz="1400" spc="-1" strike="noStrike">
                <a:solidFill>
                  <a:srgbClr val="000000"/>
                </a:solidFill>
                <a:latin typeface="Calibri"/>
              </a:rPr>
              <a:t>plašas uzņēmējdarbības iespēja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Salīdzinājumā ar 2007.g.pētījuma rezultātiem, šogad biznesa vide Latvijā biežāk vērtēta neitrāli, retāk, gan kā nelabvēlīga, gan kā labvēlīg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571680" y="571680"/>
            <a:ext cx="6848280" cy="5072040"/>
          </a:xfrm>
          <a:prstGeom prst="rect">
            <a:avLst/>
          </a:prstGeom>
          <a:ln w="0">
            <a:noFill/>
          </a:ln>
        </p:spPr>
      </p:pic>
      <p:sp>
        <p:nvSpPr>
          <p:cNvPr id="130" name="AutoShape 4"/>
          <p:cNvSpPr/>
          <p:nvPr/>
        </p:nvSpPr>
        <p:spPr>
          <a:xfrm>
            <a:off x="7143840" y="1357200"/>
            <a:ext cx="1785960" cy="1785960"/>
          </a:xfrm>
          <a:prstGeom prst="wedgeRoundRectCallout">
            <a:avLst>
              <a:gd name="adj1" fmla="val -67106"/>
              <a:gd name="adj2" fmla="val -27152"/>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Mazo un vidējo uzņēmumu īpašnieces/ vadītājas finanšu atbalsta pieejamību vērtēja kritiskāk, nekā lielo uzņēmumu pārstāv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500040" y="2714760"/>
            <a:ext cx="8229600" cy="178596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2.7. Finanšu resursu piesaistes avo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
          <p:cNvPicPr/>
          <p:nvPr/>
        </p:nvPicPr>
        <p:blipFill>
          <a:blip r:embed="rId1"/>
          <a:stretch/>
        </p:blipFill>
        <p:spPr>
          <a:xfrm>
            <a:off x="571680" y="160200"/>
            <a:ext cx="5748120" cy="6199200"/>
          </a:xfrm>
          <a:prstGeom prst="rect">
            <a:avLst/>
          </a:prstGeom>
          <a:ln w="0">
            <a:noFill/>
          </a:ln>
        </p:spPr>
      </p:pic>
      <p:sp>
        <p:nvSpPr>
          <p:cNvPr id="133" name="AutoShape 4"/>
          <p:cNvSpPr/>
          <p:nvPr/>
        </p:nvSpPr>
        <p:spPr>
          <a:xfrm>
            <a:off x="6572160" y="1071720"/>
            <a:ext cx="2214720" cy="4643280"/>
          </a:xfrm>
          <a:prstGeom prst="wedgeRoundRectCallout">
            <a:avLst>
              <a:gd name="adj1" fmla="val -67106"/>
              <a:gd name="adj2" fmla="val -27152"/>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Nozīmīgākie finanšu resursu avots nepieciešamības gadījumā:</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ES struktūrfondu finansējum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Personīgie uzkrājumi;</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Bankas kredīt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Uzņēmējdarbības atbalsta programma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Pieredzējis biznes partneri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Radi/ draugi/ paziņa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Salīdzinājumā ar 2007.g.pētījumu, šogad retāk kā iespējamais finanšu resursu avots uzņēmuma attīstībai tika minēts bankas kredīts. Citi iespējamie avoti tika minēti biežā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00040" y="2071800"/>
            <a:ext cx="8229600" cy="2428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99"/>
                </a:solidFill>
                <a:latin typeface="Verdana"/>
              </a:rPr>
              <a:t>3. Uzņēmējdarbības atbalsta programmas.</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3.1. Uzņēmējdarbības atbalsta programmu izmantošana.</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1000080" y="1000080"/>
            <a:ext cx="6599160" cy="4368960"/>
          </a:xfrm>
          <a:prstGeom prst="rect">
            <a:avLst/>
          </a:prstGeom>
          <a:ln w="0">
            <a:noFill/>
          </a:ln>
        </p:spPr>
      </p:pic>
      <p:sp>
        <p:nvSpPr>
          <p:cNvPr id="136" name="AutoShape 4"/>
          <p:cNvSpPr/>
          <p:nvPr/>
        </p:nvSpPr>
        <p:spPr>
          <a:xfrm>
            <a:off x="6929280" y="3929040"/>
            <a:ext cx="1928880" cy="2071800"/>
          </a:xfrm>
          <a:prstGeom prst="wedgeRoundRectCallout">
            <a:avLst>
              <a:gd name="adj1" fmla="val -54462"/>
              <a:gd name="adj2" fmla="val -75879"/>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Lielākā daļa (57%) aptaujāto uzņēmēju sava uzņēmuma attīstībai ir izmantojušas vai izmanto kādas uzņēmējdarbības atbalsta (finanšu vai ne-finanšu) programm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998640" y="785880"/>
            <a:ext cx="6859440" cy="5079960"/>
          </a:xfrm>
          <a:prstGeom prst="rect">
            <a:avLst/>
          </a:prstGeom>
          <a:ln w="0">
            <a:noFill/>
          </a:ln>
        </p:spPr>
      </p:pic>
      <p:sp>
        <p:nvSpPr>
          <p:cNvPr id="138" name="AutoShape 4"/>
          <p:cNvSpPr/>
          <p:nvPr/>
        </p:nvSpPr>
        <p:spPr>
          <a:xfrm>
            <a:off x="6572160" y="2857680"/>
            <a:ext cx="2286000" cy="2071440"/>
          </a:xfrm>
          <a:prstGeom prst="wedgeRoundRectCallout">
            <a:avLst>
              <a:gd name="adj1" fmla="val -54462"/>
              <a:gd name="adj2" fmla="val -75879"/>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Pētījuma rezultātu analīze atklāj, ka tās sievietes, kas uzņēmējdarbību uzsākušas pēdējo 6 gadu laikā uzņēmējdarbības atbalsta programmas izmanto vairāk nekā tās uzņēmējas, kas biznesu uzsākušas agrā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214200" y="928800"/>
            <a:ext cx="7454880" cy="4655880"/>
          </a:xfrm>
          <a:prstGeom prst="rect">
            <a:avLst/>
          </a:prstGeom>
          <a:ln w="0">
            <a:noFill/>
          </a:ln>
        </p:spPr>
      </p:pic>
      <p:sp>
        <p:nvSpPr>
          <p:cNvPr id="140" name="AutoShape 4"/>
          <p:cNvSpPr/>
          <p:nvPr/>
        </p:nvSpPr>
        <p:spPr>
          <a:xfrm>
            <a:off x="7358040" y="857160"/>
            <a:ext cx="1643040" cy="1785960"/>
          </a:xfrm>
          <a:prstGeom prst="wedgeRoundRectCallout">
            <a:avLst>
              <a:gd name="adj1" fmla="val -59958"/>
              <a:gd name="adj2" fmla="val 40731"/>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Rīgā dažādas uzņēmējdarbības atbalsta programmas visumā tiek izmantotas retāk nekā citos Latvijas reģion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1271520" y="179280"/>
            <a:ext cx="5657760" cy="6066000"/>
          </a:xfrm>
          <a:prstGeom prst="rect">
            <a:avLst/>
          </a:prstGeom>
          <a:ln w="0">
            <a:noFill/>
          </a:ln>
        </p:spPr>
      </p:pic>
      <p:sp>
        <p:nvSpPr>
          <p:cNvPr id="142" name="AutoShape 4"/>
          <p:cNvSpPr/>
          <p:nvPr/>
        </p:nvSpPr>
        <p:spPr>
          <a:xfrm>
            <a:off x="7143840" y="857160"/>
            <a:ext cx="1857240" cy="1785960"/>
          </a:xfrm>
          <a:prstGeom prst="wedgeRoundRectCallout">
            <a:avLst>
              <a:gd name="adj1" fmla="val -76449"/>
              <a:gd name="adj2" fmla="val -13629"/>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Līdz šim biežāk izmantotās uzņēmējdarbības atbalsta programmas – mentoringa un apmācības programma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500040" y="500040"/>
            <a:ext cx="6067440" cy="5524560"/>
          </a:xfrm>
          <a:prstGeom prst="rect">
            <a:avLst/>
          </a:prstGeom>
          <a:ln w="0">
            <a:noFill/>
          </a:ln>
        </p:spPr>
      </p:pic>
      <p:pic>
        <p:nvPicPr>
          <p:cNvPr id="144" name="Picture 2" descr=""/>
          <p:cNvPicPr/>
          <p:nvPr/>
        </p:nvPicPr>
        <p:blipFill>
          <a:blip r:embed="rId2"/>
          <a:stretch/>
        </p:blipFill>
        <p:spPr>
          <a:xfrm>
            <a:off x="4222800" y="2928960"/>
            <a:ext cx="4748040" cy="3143160"/>
          </a:xfrm>
          <a:prstGeom prst="rect">
            <a:avLst/>
          </a:prstGeom>
          <a:ln w="0">
            <a:noFill/>
          </a:ln>
        </p:spPr>
      </p:pic>
      <p:sp>
        <p:nvSpPr>
          <p:cNvPr id="145" name="AutoShape 4"/>
          <p:cNvSpPr/>
          <p:nvPr/>
        </p:nvSpPr>
        <p:spPr>
          <a:xfrm>
            <a:off x="6500880" y="1428840"/>
            <a:ext cx="2071800" cy="1428840"/>
          </a:xfrm>
          <a:prstGeom prst="wedgeRoundRectCallout">
            <a:avLst>
              <a:gd name="adj1" fmla="val -73726"/>
              <a:gd name="adj2" fmla="val 57018"/>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Tikai 15% aptaujāto sieviešu – uzņēmēju pašlaik izmanto kādu uzņēmējdarbības atbalsta programm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71680" y="428760"/>
            <a:ext cx="6814800" cy="5046480"/>
          </a:xfrm>
          <a:prstGeom prst="rect">
            <a:avLst/>
          </a:prstGeom>
          <a:ln w="0">
            <a:noFill/>
          </a:ln>
        </p:spPr>
      </p:pic>
      <p:sp>
        <p:nvSpPr>
          <p:cNvPr id="147" name="AutoShape 4"/>
          <p:cNvSpPr/>
          <p:nvPr/>
        </p:nvSpPr>
        <p:spPr>
          <a:xfrm>
            <a:off x="6572160" y="2928960"/>
            <a:ext cx="2286000" cy="1571760"/>
          </a:xfrm>
          <a:prstGeom prst="wedgeRoundRectCallout">
            <a:avLst>
              <a:gd name="adj1" fmla="val -54462"/>
              <a:gd name="adj2" fmla="val -75879"/>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Uzņēmējdarbības atbalsta programmas pašlaik visplašāk izmanto tās uzņēmējas, kas biznesu uzsākušas pēdējo dažu gadu laik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500040" y="428760"/>
            <a:ext cx="8358120" cy="564336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99"/>
                </a:solidFill>
                <a:latin typeface="Calibri"/>
              </a:rPr>
              <a:t>2. Sieviete biznesā.</a:t>
            </a:r>
            <a:endParaRPr b="0" lang="en-US" sz="1600" spc="-1" strike="noStrike">
              <a:solidFill>
                <a:srgbClr val="000000"/>
              </a:solidFill>
              <a:latin typeface="Arial"/>
            </a:endParaRPr>
          </a:p>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Nedaudz vairāk par pusi (52%) aptaujāto sieviešu – uzņēmēju pārstāvēja viedokli, ka sievietei šobrīd uzsākt uzņēmējdarbību ir tikpat grūti kā pirms 5 gadiem. 27% respondenšu uzskata, ka tagad uzņēmējdarbību uzsākt ir vieglāk nekā pirms 5 gadiem. Pretējs, negatīvs viedoklis (“uzņēmējdarbību ir uzsākt grūtāk”) tika pārstāvēts reti – 15% gadījumu. </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Salīdzinājumā ar 2007.g.pētījuma rezultātiem, šogad ievērojami retāk bija pārstāvēts viedoklis, ka sievietei šobrīd uzsākt uzņēmējdarbību ir grūtāk nekā pirms 5 gadiem. </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ētījuma rezultātu analīze iezīmē tendences:</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Jo salīdzinoši nesenāk ir uzsākta uzņēmējdarbība, jo biežāk pārstāvēts viedoklis, ka tagad sievietei uzņēmējdarbību uzsākt ir vieglāk nekā pirms 5 gadiem. Tas liecina, ka sievietes, kuras reāli pēdējo gadu laikā ir uzsākušas uzņēmējdarbību, vairākumā gadījumu nav saskārušās ar būtiskām problēmām uzņēmējdarbības uzsākšanas procesā.</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Rīgā un Pierīgā uzņēmējdarbības uzsākšanas iespējas kopumā tiek vērtētas pozitīvāk nekā citos Latvijas reģiono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Dominējošā aptaujāto sieviešu – uzņēmēju daļa (94%) nespēja nosaukt kādus tiesiskā regulējuma šķēršļus sieviešu uzņēmējdarbībā. Kā konkrētas atbildes visbiežāk tika minētas - </a:t>
            </a:r>
            <a:r>
              <a:rPr b="1" i="1" lang="lv-LV" sz="1400" spc="-1" strike="noStrike">
                <a:solidFill>
                  <a:srgbClr val="000000"/>
                </a:solidFill>
                <a:latin typeface="Calibri"/>
              </a:rPr>
              <a:t>Sievietes loma ģimenē; Mazs bērnu kopšanas atvaļinājuma pabals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571680" y="179280"/>
            <a:ext cx="5762520" cy="6178680"/>
          </a:xfrm>
          <a:prstGeom prst="rect">
            <a:avLst/>
          </a:prstGeom>
          <a:ln w="0">
            <a:noFill/>
          </a:ln>
        </p:spPr>
      </p:pic>
      <p:pic>
        <p:nvPicPr>
          <p:cNvPr id="149" name="Picture 2" descr=""/>
          <p:cNvPicPr/>
          <p:nvPr/>
        </p:nvPicPr>
        <p:blipFill>
          <a:blip r:embed="rId2"/>
          <a:stretch/>
        </p:blipFill>
        <p:spPr>
          <a:xfrm>
            <a:off x="4286160" y="3143160"/>
            <a:ext cx="4857840" cy="3216240"/>
          </a:xfrm>
          <a:prstGeom prst="rect">
            <a:avLst/>
          </a:prstGeom>
          <a:ln w="0">
            <a:noFill/>
          </a:ln>
        </p:spPr>
      </p:pic>
      <p:sp>
        <p:nvSpPr>
          <p:cNvPr id="150" name="AutoShape 4"/>
          <p:cNvSpPr/>
          <p:nvPr/>
        </p:nvSpPr>
        <p:spPr>
          <a:xfrm>
            <a:off x="6357960" y="1714680"/>
            <a:ext cx="2071800" cy="1143000"/>
          </a:xfrm>
          <a:prstGeom prst="wedgeRoundRectCallout">
            <a:avLst>
              <a:gd name="adj1" fmla="val -73726"/>
              <a:gd name="adj2" fmla="val 57018"/>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Kopumā kādu uzņēmējdarbības atbalsta programmu plāno izmantot 27% pētījuma dalībnieč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785880" y="142920"/>
            <a:ext cx="5995800" cy="6135480"/>
          </a:xfrm>
          <a:prstGeom prst="rect">
            <a:avLst/>
          </a:prstGeom>
          <a:ln w="0">
            <a:noFill/>
          </a:ln>
        </p:spPr>
      </p:pic>
      <p:sp>
        <p:nvSpPr>
          <p:cNvPr id="152" name="AutoShape 4"/>
          <p:cNvSpPr/>
          <p:nvPr/>
        </p:nvSpPr>
        <p:spPr>
          <a:xfrm>
            <a:off x="6643800" y="785880"/>
            <a:ext cx="2071440" cy="4214880"/>
          </a:xfrm>
          <a:prstGeom prst="wedgeRoundRectCallout">
            <a:avLst>
              <a:gd name="adj1" fmla="val -64462"/>
              <a:gd name="adj2" fmla="val -19624"/>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Saskaņā ar pētījuma rezultātiem, populārākās uzņēmējdarbības atbalsta programmas ir:</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Apmācības programma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Mentoringa programma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Nodarbinātības valsts aģentūras atbalsta programma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Latvijas investīciju un attīstības aģentūras administrētās atbalsta programmas;</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 </a:t>
            </a:r>
            <a:r>
              <a:rPr b="1" lang="lv-LV" sz="1200" spc="-1" strike="noStrike">
                <a:solidFill>
                  <a:srgbClr val="000000"/>
                </a:solidFill>
                <a:latin typeface="Calibri"/>
              </a:rPr>
              <a:t>Latvijas Hipotēku un zemes bankas atbalsta programm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500040" y="2500200"/>
            <a:ext cx="8229600" cy="20005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3.2. Uzņēmējdarbības atbalsta programmu vērtējums.</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500040" y="214200"/>
            <a:ext cx="6924600" cy="6099120"/>
          </a:xfrm>
          <a:prstGeom prst="rect">
            <a:avLst/>
          </a:prstGeom>
          <a:ln w="0">
            <a:noFill/>
          </a:ln>
        </p:spPr>
      </p:pic>
      <p:sp>
        <p:nvSpPr>
          <p:cNvPr id="155" name="AutoShape 4"/>
          <p:cNvSpPr/>
          <p:nvPr/>
        </p:nvSpPr>
        <p:spPr>
          <a:xfrm>
            <a:off x="7358040" y="1357200"/>
            <a:ext cx="1643040" cy="3929040"/>
          </a:xfrm>
          <a:prstGeom prst="wedgeRoundRectCallout">
            <a:avLst>
              <a:gd name="adj1" fmla="val -57212"/>
              <a:gd name="adj2" fmla="val -9837"/>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Visas uzņēmējdarbības atbalsta programmas dominējošā daļā gadījumu tika vērtētas pozitīvi – vairāk nekā 70% šo programmu dalībnieču ir ar tām apmierinātas. Kritika visbiežāk pausta par LAD, LIIA un Hipotēku un zemes bankas atbalsta programmā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500040" y="2500200"/>
            <a:ext cx="8229600" cy="20005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3.3. Šķēršļi uzņēmējdarbības atbalsta programmu izmantošanai.</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Calibri"/>
              </a:rPr>
              <a:t>Par atbalsta programmām, kuras pētījuma dalībnieces ir izmantojušas, izmanto vai plāno izmantot, respondentes tika lūgtas atbildēt uz jautājumu – </a:t>
            </a:r>
            <a:r>
              <a:rPr b="1" i="1" lang="lv-LV" sz="1600" spc="-1" strike="noStrike">
                <a:solidFill>
                  <a:srgbClr val="000099"/>
                </a:solidFill>
                <a:latin typeface="Calibri"/>
              </a:rPr>
              <a:t>“Kādi, Jūsuprāt, ir šķēršļi programmas apguvei un tiesiskajam regulējumam? Ko būtu nepieciešams pilnveido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990033"/>
                </a:solidFill>
                <a:latin typeface="Calibri"/>
              </a:rPr>
              <a:t>Mentoringa programmas</a:t>
            </a:r>
            <a:endParaRPr b="0" lang="en-US" sz="18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70 respondent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peciālisti/mentori nav pietiekami zinoši/ trūkst zinošu lektoru/praktiķu (9 respondent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i uzņēmējus uztver kā sadarbības partnerus (8);</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trūkst mārketinga aktivitāšu/reklāmas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i būtu vairāk mentoru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i sniedz praktiskus ieteikumu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dāvāt vairāk seminār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niegt konsultācijas arī tiem, kuri nesaņēma atbalst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Biežāku komunikāciju ar uzņēmumie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āku atbalstu no valsts/pārdomātāku likumdošan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Šķēršļu nav/ Nezin/NA (4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8" name="Picture 5" descr="hcc2.gif"/>
          <p:cNvPicPr/>
          <p:nvPr/>
        </p:nvPicPr>
        <p:blipFill>
          <a:blip r:embed="rId1"/>
          <a:stretch/>
        </p:blipFill>
        <p:spPr>
          <a:xfrm>
            <a:off x="7000920" y="4500720"/>
            <a:ext cx="1857240" cy="1514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990033"/>
                </a:solidFill>
                <a:latin typeface="Calibri"/>
              </a:rPr>
              <a:t>Apmācību programmas</a:t>
            </a:r>
            <a:endParaRPr b="0" lang="en-US" sz="18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76 respondent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lnveidot programmu klāstu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trūkst kvalifikācijas paaugstināšanas kursu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airāk bezmaksas/lētākas programmas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informācijas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birokrātiska pieeja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zinošu lektoru/praktiķu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i sniedz praktiskus ieteikumus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režģīta dokumentu sagatavošan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Kursi/apmācības notiek angļu valodā/valodas barjer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stingri noteikumi par uzņēmuma nodokļu maksāšan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stingra administratīvā uzraudzīb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ienkāršot atskaišu sistēm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Fragmentāra kuponu izsniegšan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ārgi informatīvie kurs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niegt informāciju par programmām Eiropā;</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Atbilstošas lekcijas dažādām nozarēm;</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trūks kvalitatīvu programm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Šķēršļu nav/ nezin/NA (4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0" name="Picture 5" descr="hcc2.gif"/>
          <p:cNvPicPr/>
          <p:nvPr/>
        </p:nvPicPr>
        <p:blipFill>
          <a:blip r:embed="rId1"/>
          <a:stretch/>
        </p:blipFill>
        <p:spPr>
          <a:xfrm>
            <a:off x="6929280" y="4572000"/>
            <a:ext cx="1857600" cy="1514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990033"/>
                </a:solidFill>
                <a:latin typeface="Calibri"/>
              </a:rPr>
              <a:t>Nodarbinātības valsts aģentūras atbalsta programmas</a:t>
            </a:r>
            <a:endParaRPr b="0" lang="en-US" sz="18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57 respondent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birokrātiska pieeja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peciālisti/mentori nav pietiekami zinoši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airāk apmācīt bezdarbniekus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informācij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i programmu pārņem kāda cita iestāde/ne NV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ielas rindas uz finansējum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ienkāršot atskaišu sistēm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azs atbalsts %;</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airāk izskaidrot punktu sistēm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apmierina realizācijas termiņ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lgi jāgaida līdz tiek nokomplektēta grupa programmas uzsākšana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airāk izskaidrot atteikuma iemeslu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Fragmentāra kuponu izsniegšan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urpināt jauniešu darba prakses programm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trūkst kvalifikācijas paaugstināšanas kurs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Šķēršļu nav/ nezin/NA (3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2" name="Picture 5" descr="hcc2.gif"/>
          <p:cNvPicPr/>
          <p:nvPr/>
        </p:nvPicPr>
        <p:blipFill>
          <a:blip r:embed="rId1"/>
          <a:stretch/>
        </p:blipFill>
        <p:spPr>
          <a:xfrm>
            <a:off x="7000920" y="4500720"/>
            <a:ext cx="1857240" cy="1514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990033"/>
                </a:solidFill>
                <a:latin typeface="Calibri"/>
              </a:rPr>
              <a:t>Latvijas investīciju un attīstības aģentūras administrētās atbalsta programmas</a:t>
            </a:r>
            <a:endParaRPr b="0" lang="en-US" sz="18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48 respondentes)</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birokrātiska pieeja (5 respondentes);</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režģīta dokumentu sagatavošana/ sarežģīta pieteikšanās procedūra (4);</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ilgi jāgaida uz naudas atmaksu (3);</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ašam jābūt līdzekļiem, jo tos piešķir /atgriež vēlāk (3);</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i pretendenti tiek cītīgāk izvērtēti (3);</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trūkst mārketinga aktivitāšu/reklāmas (3);</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ākslīgi sarežģīta finanšu plūsma;</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lgs process;</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audz liekas informācijas;</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Kursi/apmācības notiek angļu valodā/valodas barjera;</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rogrammas paredzētas šaurai mērķgrupai;</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rogrammas nav paredzētas maziem uzņēmumiem;</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nformācija nav pietiekami pieejama;</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nformēt par vērtēšanas kritērijiem;</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stingri noteikumi par uzņēmuma nodokļu maksāšanu;</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zinošu lektoru/praktiķu;</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pārdomāti pieredzes apmaiņas braucieni;</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rogrammu ārzemju pārstāvji nav pietiekami motivēti strādāt;</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tiek saņemti visi programmā ietvertie labumi;</a:t>
            </a:r>
            <a:endParaRPr b="0" lang="en-US" sz="1400" spc="-1" strike="noStrike">
              <a:solidFill>
                <a:srgbClr val="000000"/>
              </a:solidFill>
              <a:latin typeface="Arial"/>
            </a:endParaRPr>
          </a:p>
          <a:p>
            <a:pPr lvl="1" marL="914400" indent="-457200">
              <a:lnSpc>
                <a:spcPct val="11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Šķēršļu nav/ nezin/NA (19).</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4" name="Picture 5" descr="hcc2.gif"/>
          <p:cNvPicPr/>
          <p:nvPr/>
        </p:nvPicPr>
        <p:blipFill>
          <a:blip r:embed="rId1"/>
          <a:stretch/>
        </p:blipFill>
        <p:spPr>
          <a:xfrm>
            <a:off x="7000920" y="4572000"/>
            <a:ext cx="1857240" cy="1514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990033"/>
                </a:solidFill>
                <a:latin typeface="Calibri"/>
              </a:rPr>
              <a:t>Latvijas Hipotēku un zemes bankas atbalsta programmas</a:t>
            </a:r>
            <a:endParaRPr b="0" lang="en-US" sz="18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36 respondentes)</a:t>
            </a:r>
            <a:endParaRPr b="0" lang="en-US" sz="14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birokrātiska pieeja (5);</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režģīta dokumentu sagatavošana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nformācija nav pietiekami pieejama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zinošu lektoru/praktiķu (3);</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ilgi jāgaida uz naudas atmaks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Mākslīgi sarežģīta finanšu plūsm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Finansiāli neizdevīgi nosacījum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stingri noteikumi par uzņēmuma naudas plūsmu bankā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stingra administratīvā uzraudzība;</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Nepieciešamas biežākas apmācīb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trūkst mārketinga aktivitāšu/reklām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lnveidot programmu klāstu;</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Ņemt vērā senāku uzņēmumu interes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Šķēršļu nav/ nezin/NA (18).</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Picture 5" descr="hcc2.gif"/>
          <p:cNvPicPr/>
          <p:nvPr/>
        </p:nvPicPr>
        <p:blipFill>
          <a:blip r:embed="rId1"/>
          <a:stretch/>
        </p:blipFill>
        <p:spPr>
          <a:xfrm>
            <a:off x="6858000" y="4500720"/>
            <a:ext cx="1857240" cy="151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500040" y="500040"/>
            <a:ext cx="8358120" cy="5572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Saskaņā ar pētījuma rezultātiem, pārliecinoši aktuālākā problēma uzņēmējdarbībā ir augstie nodokļi. </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Augstos nodokļus, kā ļoti vai drīzāk aktuālu problēmu, nosauca vairāk nekā trīs ceturtdaļas (80%) aptaujāto sieviešu – uzņēmēju;</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Tā ir galvenā problēma uzņēmējdarbībā vairāk nekā ceturtajai daļai (27%) pētījuma dalībnieču;</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Augsti nodokļi – vienīgais  faktors, ko vairākums  (62%) sieviešu – uzņēmēju, ierindoja trīs nozīmīgāko problēmu vidū, kas kavējušas viņu uzņēmuma attīstību.</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Aktuālas problēmas nozīmīgai uzņēmēju daļai ir arī:</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Kontrolējošo institūciju lielais skaits/ kontroļu formālais rakstur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Konkurence;</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Grūtības ar uzņēmuma tālāku attīstību;</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Kvalificēta darba spēka trūkum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Nesakārtota likumdošana/ atbilstīgu normatīvo aktu trūkum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roblēmas realizēt savu produkciju/ pakalpojum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1071720" y="285840"/>
            <a:ext cx="7786440" cy="59515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990033"/>
                </a:solidFill>
                <a:latin typeface="Calibri"/>
              </a:rPr>
              <a:t>Granti</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25 respondentes)</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birokrātiska pieeja (3);</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trūkst mārketinga aktivitāšu/reklāmas;</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ienkāršot atskaišu sistēmu;</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zslēgt korupcijas iespējas;</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ārgi informatīvie kursi;</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Šķēršļu nav/ nezin/NA (19).</a:t>
            </a:r>
            <a:endParaRPr b="0" lang="en-US" sz="1400" spc="-1" strike="noStrike">
              <a:solidFill>
                <a:srgbClr val="000000"/>
              </a:solidFill>
              <a:latin typeface="Arial"/>
            </a:endParaRPr>
          </a:p>
          <a:p>
            <a:pPr lvl="1" marL="914400" indent="-457200">
              <a:lnSpc>
                <a:spcPct val="12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990033"/>
                </a:solidFill>
                <a:latin typeface="Calibri"/>
              </a:rPr>
              <a:t>Lauku atbalsta dienesta piedāvātās atbalsta programma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20 respondentes)</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birokrātiska pieeja (3);</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ārāk mazs atbalsts (%) (3);</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ašam jābūt līdzekļiem, jo tos piešķir /atgriež vēlāk;</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Uzņēmumiem pašiem jāmaksā PVN;</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Sarežģīta dokumentu sagatavošana;</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informācijas;</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zinošu lektoru/praktiķu;</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lnveidot programmu klāstu;</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i uzņēmējus uztver kā sadarbības partnerus;</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Ilgs pieteikumu projektu izskatīšanas termiņš;</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Vienkāršot atskaišu sistēmu;</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Lai projektus var realizēt mazāk apdzīvotās vietās;</a:t>
            </a:r>
            <a:endParaRPr b="0" lang="en-US" sz="1400" spc="-1" strike="noStrike">
              <a:solidFill>
                <a:srgbClr val="000000"/>
              </a:solidFill>
              <a:latin typeface="Arial"/>
            </a:endParaRPr>
          </a:p>
          <a:p>
            <a:pPr lvl="1" marL="914400" indent="-457200">
              <a:lnSpc>
                <a:spcPct val="11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Šķēršļu nav/ nezin/NA (8).</a:t>
            </a:r>
            <a:endParaRPr b="0" lang="en-US" sz="1400" spc="-1" strike="noStrike">
              <a:solidFill>
                <a:srgbClr val="000000"/>
              </a:solidFill>
              <a:latin typeface="Arial"/>
            </a:endParaRPr>
          </a:p>
        </p:txBody>
      </p:sp>
      <p:pic>
        <p:nvPicPr>
          <p:cNvPr id="168" name="Picture 5" descr="hcc2.gif"/>
          <p:cNvPicPr/>
          <p:nvPr/>
        </p:nvPicPr>
        <p:blipFill>
          <a:blip r:embed="rId1"/>
          <a:stretch/>
        </p:blipFill>
        <p:spPr>
          <a:xfrm>
            <a:off x="6929280" y="4572000"/>
            <a:ext cx="1857600" cy="1514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1071720" y="285840"/>
            <a:ext cx="7786440" cy="57150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990033"/>
                </a:solidFill>
                <a:latin typeface="Calibri"/>
              </a:rPr>
              <a:t>Biznesa eņģeļi</a:t>
            </a:r>
            <a:endParaRPr b="0" lang="en-US" sz="18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9 respondent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Trūkst informācij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Dārgi informatīvie kursi;</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Šķēršļu nav/ nezin/NA (7).</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990033"/>
                </a:solidFill>
                <a:latin typeface="Calibri"/>
              </a:rPr>
              <a:t>Latvijas Garantiju aģentūras programmas</a:t>
            </a:r>
            <a:endParaRPr b="0" lang="en-US" sz="1800" spc="-1" strike="noStrike">
              <a:solidFill>
                <a:srgbClr val="000000"/>
              </a:solidFill>
              <a:latin typeface="Arial"/>
            </a:endParaRPr>
          </a:p>
          <a:p>
            <a:pPr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5 respondente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Pietrūkst mārketinga aktivitāšu/reklāmas;</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lv-LV" sz="1400" spc="-1" strike="noStrike">
                <a:solidFill>
                  <a:srgbClr val="000000"/>
                </a:solidFill>
                <a:latin typeface="Calibri"/>
              </a:rPr>
              <a:t>Šķēršļu nav/ nezin/NA (4).</a:t>
            </a:r>
            <a:endParaRPr b="0" lang="en-US" sz="1400" spc="-1" strike="noStrike">
              <a:solidFill>
                <a:srgbClr val="000000"/>
              </a:solidFill>
              <a:latin typeface="Arial"/>
            </a:endParaRPr>
          </a:p>
          <a:p>
            <a:pPr lvl="1" marL="914400" indent="-457200">
              <a:lnSpc>
                <a:spcPct val="120000"/>
              </a:lnSpc>
              <a:spcBef>
                <a:spcPts val="2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0" name="Picture 5" descr="hcc2.gif"/>
          <p:cNvPicPr/>
          <p:nvPr/>
        </p:nvPicPr>
        <p:blipFill>
          <a:blip r:embed="rId1"/>
          <a:stretch/>
        </p:blipFill>
        <p:spPr>
          <a:xfrm>
            <a:off x="7000920" y="4429080"/>
            <a:ext cx="1857240" cy="1514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715080" y="285840"/>
            <a:ext cx="2286000" cy="107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Vispārējas barjeras uzņēmējdarbības atbalsta programmu izmantošanai</a:t>
            </a:r>
            <a:endParaRPr b="0" lang="en-US" sz="1600" spc="-1" strike="noStrike">
              <a:solidFill>
                <a:srgbClr val="000000"/>
              </a:solidFill>
              <a:latin typeface="Arial"/>
            </a:endParaRPr>
          </a:p>
        </p:txBody>
      </p:sp>
      <p:pic>
        <p:nvPicPr>
          <p:cNvPr id="172" name="Picture 3" descr=""/>
          <p:cNvPicPr/>
          <p:nvPr/>
        </p:nvPicPr>
        <p:blipFill>
          <a:blip r:embed="rId1"/>
          <a:stretch/>
        </p:blipFill>
        <p:spPr>
          <a:xfrm>
            <a:off x="428760" y="189000"/>
            <a:ext cx="5770440" cy="6168960"/>
          </a:xfrm>
          <a:prstGeom prst="rect">
            <a:avLst/>
          </a:prstGeom>
          <a:ln w="0">
            <a:noFill/>
          </a:ln>
        </p:spPr>
      </p:pic>
      <p:sp>
        <p:nvSpPr>
          <p:cNvPr id="173" name="TextBox 5"/>
          <p:cNvSpPr/>
          <p:nvPr/>
        </p:nvSpPr>
        <p:spPr>
          <a:xfrm>
            <a:off x="5500800" y="3002040"/>
            <a:ext cx="3357360" cy="254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Kā “cits” tika minēts:</a:t>
            </a:r>
            <a:endParaRPr b="0" lang="en-US" sz="1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Uzskata to par iespēju,ko izmantot tikai izmisuma gadījumos;</a:t>
            </a:r>
            <a:endParaRPr b="0" lang="en-US" sz="1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Trūkst informācijas krievu valodā;</a:t>
            </a:r>
            <a:endParaRPr b="0" lang="en-US" sz="1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Neizdevīgi piedāvājumi/lieli kredīti;</a:t>
            </a:r>
            <a:endParaRPr b="0" lang="en-US" sz="1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Nesaskata lielus ieguvumus;</a:t>
            </a:r>
            <a:endParaRPr b="0" lang="en-US" sz="1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Uzņēmības trūkums;</a:t>
            </a:r>
            <a:endParaRPr b="0" lang="en-US" sz="1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Ideju trūkums;</a:t>
            </a:r>
            <a:endParaRPr b="0" lang="en-US" sz="1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Nevēlēšanās nonākt finansiālā atkarībā.</a:t>
            </a:r>
            <a:endParaRPr b="0" lang="en-US" sz="1400" spc="-1" strike="noStrike">
              <a:solidFill>
                <a:srgbClr val="000000"/>
              </a:solidFill>
              <a:latin typeface="Arial"/>
            </a:endParaRPr>
          </a:p>
        </p:txBody>
      </p:sp>
      <p:sp>
        <p:nvSpPr>
          <p:cNvPr id="174" name="Rectangle 6"/>
          <p:cNvSpPr/>
          <p:nvPr/>
        </p:nvSpPr>
        <p:spPr>
          <a:xfrm>
            <a:off x="1357200" y="785880"/>
            <a:ext cx="5072040" cy="5000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4"/>
          <p:cNvSpPr/>
          <p:nvPr/>
        </p:nvSpPr>
        <p:spPr>
          <a:xfrm>
            <a:off x="6715080" y="1571760"/>
            <a:ext cx="2143080" cy="1000080"/>
          </a:xfrm>
          <a:prstGeom prst="wedgeRoundRectCallout">
            <a:avLst>
              <a:gd name="adj1" fmla="val -58939"/>
              <a:gd name="adj2" fmla="val -87967"/>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Būtiskākā barjera uzņēmējdarbības atbalsta programmu izmantošanai – sarežģītā birokrātij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500040" y="2286000"/>
            <a:ext cx="8229600" cy="22147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3200" spc="-1" strike="noStrike">
                <a:solidFill>
                  <a:srgbClr val="000099"/>
                </a:solidFill>
                <a:latin typeface="Verdana"/>
              </a:rPr>
              <a:t>4. Sieviešu – uzņēmēju sociāli demogrāfiskais profils un uzņēmumu raksturoju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1428840" y="285840"/>
            <a:ext cx="5871960" cy="5964120"/>
          </a:xfrm>
          <a:prstGeom prst="rect">
            <a:avLst/>
          </a:prstGeom>
          <a:ln w="0">
            <a:noFill/>
          </a:ln>
        </p:spPr>
      </p:pic>
      <p:sp>
        <p:nvSpPr>
          <p:cNvPr id="178" name="Rectangle 2"/>
          <p:cNvSpPr/>
          <p:nvPr/>
        </p:nvSpPr>
        <p:spPr>
          <a:xfrm>
            <a:off x="7286760" y="285840"/>
            <a:ext cx="1714320" cy="192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Uzņēmējdarbības uzsākšanas gads un darbinieku skaits uzņēmumos</a:t>
            </a:r>
            <a:endParaRPr b="0" lang="en-US" sz="1600" spc="-1" strike="noStrike">
              <a:solidFill>
                <a:srgbClr val="000000"/>
              </a:solidFill>
              <a:latin typeface="Arial"/>
            </a:endParaRPr>
          </a:p>
        </p:txBody>
      </p:sp>
      <p:sp>
        <p:nvSpPr>
          <p:cNvPr id="179" name="Oval 1060"/>
          <p:cNvSpPr/>
          <p:nvPr/>
        </p:nvSpPr>
        <p:spPr>
          <a:xfrm>
            <a:off x="6572160" y="4643280"/>
            <a:ext cx="571680" cy="57168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ight Brace 4"/>
          <p:cNvSpPr/>
          <p:nvPr/>
        </p:nvSpPr>
        <p:spPr>
          <a:xfrm>
            <a:off x="4286160" y="2000160"/>
            <a:ext cx="727200" cy="2357640"/>
          </a:xfrm>
          <a:custGeom>
            <a:avLst/>
            <a:gdLst>
              <a:gd name="textAreaLeft" fmla="*/ 0 w 727200"/>
              <a:gd name="textAreaRight" fmla="*/ 262440 w 727200"/>
              <a:gd name="textAreaTop" fmla="*/ 18720 h 2357640"/>
              <a:gd name="textAreaBottom" fmla="*/ 2338920 h 2357640"/>
            </a:gdLst>
            <a:ahLst/>
            <a:rect l="textAreaLeft" t="textAreaTop" r="textAreaRight" b="textAreaBottom"/>
            <a:pathLst>
              <a:path w="21600" h="21600">
                <a:moveTo>
                  <a:pt x="0" y="0"/>
                </a:moveTo>
                <a:cubicBezTo>
                  <a:pt x="5400" y="0"/>
                  <a:pt x="10800" y="278"/>
                  <a:pt x="10800" y="555"/>
                </a:cubicBezTo>
                <a:lnTo>
                  <a:pt x="10800" y="10245"/>
                </a:lnTo>
                <a:cubicBezTo>
                  <a:pt x="10800" y="10523"/>
                  <a:pt x="16200" y="10800"/>
                  <a:pt x="21600" y="10800"/>
                </a:cubicBezTo>
                <a:cubicBezTo>
                  <a:pt x="16200" y="10800"/>
                  <a:pt x="10800" y="11078"/>
                  <a:pt x="10800" y="11355"/>
                </a:cubicBezTo>
                <a:lnTo>
                  <a:pt x="10800" y="21045"/>
                </a:lnTo>
                <a:cubicBezTo>
                  <a:pt x="10800" y="21323"/>
                  <a:pt x="5400" y="21600"/>
                  <a:pt x="0" y="21600"/>
                </a:cubicBezTo>
              </a:path>
            </a:pathLst>
          </a:custGeom>
          <a:noFill/>
          <a:ln w="3168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5"/>
          <p:cNvSpPr/>
          <p:nvPr/>
        </p:nvSpPr>
        <p:spPr>
          <a:xfrm>
            <a:off x="5143680" y="300024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5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1000080" y="264960"/>
            <a:ext cx="5857920" cy="5950080"/>
          </a:xfrm>
          <a:prstGeom prst="rect">
            <a:avLst/>
          </a:prstGeom>
          <a:ln w="0">
            <a:noFill/>
          </a:ln>
        </p:spPr>
      </p:pic>
      <p:sp>
        <p:nvSpPr>
          <p:cNvPr id="183" name="Rectangle 2"/>
          <p:cNvSpPr/>
          <p:nvPr/>
        </p:nvSpPr>
        <p:spPr>
          <a:xfrm>
            <a:off x="7286760" y="285840"/>
            <a:ext cx="1714320" cy="192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Uzņēmumu darbības sfē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1357200" y="285840"/>
            <a:ext cx="5872320" cy="5964120"/>
          </a:xfrm>
          <a:prstGeom prst="rect">
            <a:avLst/>
          </a:prstGeom>
          <a:ln w="0">
            <a:noFill/>
          </a:ln>
        </p:spPr>
      </p:pic>
      <p:sp>
        <p:nvSpPr>
          <p:cNvPr id="185" name="Rectangle 2"/>
          <p:cNvSpPr/>
          <p:nvPr/>
        </p:nvSpPr>
        <p:spPr>
          <a:xfrm>
            <a:off x="7286760" y="285840"/>
            <a:ext cx="1714320" cy="192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Vecu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Tautīb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Bērni</a:t>
            </a:r>
            <a:endParaRPr b="0" lang="en-US" sz="1600" spc="-1" strike="noStrike">
              <a:solidFill>
                <a:srgbClr val="000000"/>
              </a:solidFill>
              <a:latin typeface="Arial"/>
            </a:endParaRPr>
          </a:p>
        </p:txBody>
      </p:sp>
      <p:sp>
        <p:nvSpPr>
          <p:cNvPr id="186" name="Oval 1060"/>
          <p:cNvSpPr/>
          <p:nvPr/>
        </p:nvSpPr>
        <p:spPr>
          <a:xfrm>
            <a:off x="4071960" y="1143000"/>
            <a:ext cx="642960" cy="114300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060"/>
          <p:cNvSpPr/>
          <p:nvPr/>
        </p:nvSpPr>
        <p:spPr>
          <a:xfrm>
            <a:off x="6357960" y="3929040"/>
            <a:ext cx="571320" cy="57168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1000080" y="214200"/>
            <a:ext cx="6029280" cy="6124680"/>
          </a:xfrm>
          <a:prstGeom prst="rect">
            <a:avLst/>
          </a:prstGeom>
          <a:ln w="0">
            <a:noFill/>
          </a:ln>
        </p:spPr>
      </p:pic>
      <p:sp>
        <p:nvSpPr>
          <p:cNvPr id="189" name="Rectangle 2"/>
          <p:cNvSpPr/>
          <p:nvPr/>
        </p:nvSpPr>
        <p:spPr>
          <a:xfrm>
            <a:off x="7286760" y="285840"/>
            <a:ext cx="1714320" cy="192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Izglītīb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Valodas</a:t>
            </a:r>
            <a:endParaRPr b="0" lang="en-US" sz="1600" spc="-1" strike="noStrike">
              <a:solidFill>
                <a:srgbClr val="000000"/>
              </a:solidFill>
              <a:latin typeface="Arial"/>
            </a:endParaRPr>
          </a:p>
        </p:txBody>
      </p:sp>
      <p:sp>
        <p:nvSpPr>
          <p:cNvPr id="190" name="Oval 1060"/>
          <p:cNvSpPr/>
          <p:nvPr/>
        </p:nvSpPr>
        <p:spPr>
          <a:xfrm>
            <a:off x="6215040" y="1143000"/>
            <a:ext cx="571680" cy="57168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1060"/>
          <p:cNvSpPr/>
          <p:nvPr/>
        </p:nvSpPr>
        <p:spPr>
          <a:xfrm>
            <a:off x="6143760" y="3071880"/>
            <a:ext cx="1071360" cy="107136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857160" y="428760"/>
            <a:ext cx="6029280" cy="5524200"/>
          </a:xfrm>
          <a:prstGeom prst="rect">
            <a:avLst/>
          </a:prstGeom>
          <a:ln w="0">
            <a:noFill/>
          </a:ln>
        </p:spPr>
      </p:pic>
      <p:sp>
        <p:nvSpPr>
          <p:cNvPr id="193" name="Oval 1060"/>
          <p:cNvSpPr/>
          <p:nvPr/>
        </p:nvSpPr>
        <p:spPr>
          <a:xfrm>
            <a:off x="6072120" y="3857760"/>
            <a:ext cx="571680" cy="57132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060"/>
          <p:cNvSpPr/>
          <p:nvPr/>
        </p:nvSpPr>
        <p:spPr>
          <a:xfrm>
            <a:off x="4572000" y="1428840"/>
            <a:ext cx="785880" cy="1643040"/>
          </a:xfrm>
          <a:prstGeom prst="ellipse">
            <a:avLst/>
          </a:prstGeom>
          <a:noFill/>
          <a:ln w="38160">
            <a:solidFill>
              <a:srgbClr val="c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
          <p:cNvSpPr/>
          <p:nvPr/>
        </p:nvSpPr>
        <p:spPr>
          <a:xfrm>
            <a:off x="7286760" y="285840"/>
            <a:ext cx="1714320" cy="192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990033"/>
                </a:solidFill>
                <a:latin typeface="Calibri"/>
              </a:rPr>
              <a:t>Ģimenes stāvoklis un locekļu skai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500040" y="357120"/>
            <a:ext cx="8358120" cy="5715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Salīdzinājumā ar 2007.g.pētījuma rezultātiem pieaugusi tādu jautājumu aktualitāte, kā:</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Kvalificēta darba spēka trūkums;</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Grūti pieejami kredīti/ finansu avoti;</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Problēmas realizēt savu produkciju/ pakalpojumus;</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Negodīgi biznesa partneri un klienti;</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Nesavlaicīgi norēķini par sniegtajiem pakalpojumiem/ realizēto produkciju.</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Gandrīz katrai otrajai  (49%) uzņēmējai vislielākās grūtības biznesā bija uzņēmuma attīstības un paplašināšanās fāzē. Nedaudz mazākam aptaujas dalībnieču skaitam (41%) vislielākās grūtības  bija uzņēmuma uzsākšanas (pirmie 3 gadi) fāzē.</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ētījuma rezultāti iezīmē tendenci – jo lielāks uzņēmums, jo biežāk tika pārstāvēts viedoklis, ka vislielākās grūtības biznesā bija uzņēmuma attīstības un paplašināšanās fāzē. </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Svarīgākie motīvi, kas sievieti piesaista uzņēmējdarbībai (minēja vairāk nekā 80% aptaujas dalībnieču):</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Iespēja  darīt darbu, kas pašai patīk;</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Iespēja realizēt sevi;</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Iespēja būt neatkarīgai;</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Iespēja nodarboties pašai ar savu biznesu;</a:t>
            </a:r>
            <a:endParaRPr b="0" lang="en-US" sz="1400" spc="-1" strike="noStrike">
              <a:solidFill>
                <a:srgbClr val="000000"/>
              </a:solidFill>
              <a:latin typeface="Arial"/>
            </a:endParaRPr>
          </a:p>
          <a:p>
            <a:pPr lvl="1" marL="914400" indent="-457200">
              <a:lnSpc>
                <a:spcPct val="120000"/>
              </a:lnSpc>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a:t>
            </a:r>
            <a:r>
              <a:rPr b="1" lang="lv-LV" sz="1400" spc="-1" strike="noStrike">
                <a:solidFill>
                  <a:srgbClr val="000000"/>
                </a:solidFill>
                <a:latin typeface="Calibri"/>
              </a:rPr>
              <a:t>Iespēja uzturēt ģime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500040" y="500040"/>
            <a:ext cx="8358120" cy="5572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Sava uzņēmuma attīstību pēdējo 2 gadu laikā pozitīvi vērtēja 41,5% aptaujāto sieviešu - uzņēmēju.  Biežāk minētā argumentācija - </a:t>
            </a:r>
            <a:r>
              <a:rPr b="1" i="1" lang="lv-LV" sz="1400" spc="-1" strike="noStrike">
                <a:solidFill>
                  <a:srgbClr val="000000"/>
                </a:solidFill>
                <a:latin typeface="Calibri"/>
              </a:rPr>
              <a:t>Attīstas/uzlabojas Latvijas ekonomika; Sekmīga uzņēmuma attīstība/ pašu darbs; Pieaug klientu skaits; Iekarota klientu uzticība/ savs klientu lok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Kritisku vērtējumu pārstāvēja 19% pētījuma dalībnieču. Visbiežāk tas tika pamatots sekojoši - </a:t>
            </a:r>
            <a:r>
              <a:rPr b="1" i="1" lang="lv-LV" sz="1400" spc="-1" strike="noStrike">
                <a:solidFill>
                  <a:srgbClr val="000000"/>
                </a:solidFill>
                <a:latin typeface="Calibri"/>
              </a:rPr>
              <a:t>Maza pirktspēja/ atkarība no klientu finansiālajām iespējām; Nodokļu slogs/ lieli nodokļi; Slikta ekonomiskā situācija valstī.</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28% respondenšu atzina, ka viņu uzņēmuma ekonomiskā situācija pēdējo 2 gadu laikā nav būtiski mainījusies. Visbiežāk tas tika pamatots sekojoši - </a:t>
            </a:r>
            <a:r>
              <a:rPr b="1" i="1" lang="lv-LV" sz="1400" spc="-1" strike="noStrike">
                <a:solidFill>
                  <a:srgbClr val="000000"/>
                </a:solidFill>
                <a:latin typeface="Calibri"/>
              </a:rPr>
              <a:t>Maz klientu; Lieli nodokļi/  nodokļu slogs; Nav/nebija vēlmes/mērķis paplašinātie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Salīdzinājumā ar 2007.g.pētījuma rezultātiem, šogad uzņēmumu ekonomiskās situācijas attīstība ievērojami retāk tika vērtēta pozitīvi (2012.g. - 41,5%; 2007.g. - 61% gadījumu).</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ētījuma rezultātu analīze iezīmē tendences:</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Jo senāk ir uzsākta uzņēmējdarbība, jo biežāk uzņēmuma ekonomiskās situācijas attīstība vērtēta kritiski. </a:t>
            </a:r>
            <a:endParaRPr b="0" lang="en-US" sz="1400" spc="-1" strike="noStrike">
              <a:solidFill>
                <a:srgbClr val="000000"/>
              </a:solidFill>
              <a:latin typeface="Arial"/>
            </a:endParaRPr>
          </a:p>
          <a:p>
            <a:pPr lvl="1" marL="914400" indent="-457200">
              <a:lnSpc>
                <a:spcPct val="120000"/>
              </a:lnSpc>
              <a:spcBef>
                <a:spcPts val="104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Rīgā un Pierīgā uzņēmumu ekonomiskās situācijas attīstība biežāk  tika vērtēta pozitīvi nekā citos Latvijas reģionos.</a:t>
            </a:r>
            <a:endParaRPr b="0" lang="en-US" sz="1400" spc="-1" strike="noStrike">
              <a:solidFill>
                <a:srgbClr val="000000"/>
              </a:solidFill>
              <a:latin typeface="Arial"/>
            </a:endParaRPr>
          </a:p>
          <a:p>
            <a:pPr marL="457200" indent="-457200">
              <a:lnSpc>
                <a:spcPct val="12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06:06:29Z</dcterms:created>
  <dc:creator>Oskars</dc:creator>
  <dc:description/>
  <dc:language>en-US</dc:language>
  <cp:lastModifiedBy>Zanda</cp:lastModifiedBy>
  <dcterms:modified xsi:type="dcterms:W3CDTF">2012-11-30T14:29:48Z</dcterms:modified>
  <cp:revision>147</cp:revision>
  <dc:subject/>
  <dc:title>Slide 1</dc:title>
</cp:coreProperties>
</file>